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7EFE-145A-4F30-949F-3C5F071E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268E-E880-48D5-B9D0-02A67869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A15C-CD34-44F0-B387-B206C68B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AC56-F3A5-426B-842F-C625D346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331C-BF7D-40B8-AEDD-61C0F05C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5474-0E48-4652-B9AC-4A0F40CA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9F88-DEB9-4636-97D5-394A821E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0624-960B-4F8C-8E0C-751E58ED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A1EC-62E6-40D4-8858-30C9AF4A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8FA2-20B4-4E48-99CE-671791FE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2FCE-9B92-4EE9-B1FE-9FC4E1C0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08AB-F86C-492D-BB4D-0FC46BB7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8C0A-5C52-4AED-BF82-3E130B45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3E42-53E5-49AF-ADC2-9C20B2A4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219B-D88A-42A0-AF3B-06BC3995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F003-D554-4618-BEAD-78B15014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D645-314F-4744-9F16-B027CC7F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F751-C522-4A63-BB72-D8150F6E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04B0-91A2-4238-873B-9F9F80E1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71B4-0242-4E39-887F-A2D3F4A5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3BBB-3389-46CA-863F-A9046BB6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0AAB-05C9-4D34-B78F-64707B06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577D-B764-488B-93F4-178B95BF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528-E054-4ADC-9956-1F9E7D08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7FAE-A743-474D-9882-EE20431CB21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87F8-A9DE-4DDC-B7E7-462228723BD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5582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Заболевания сердечно-сосудистой системы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у беременных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4920" y="4508280"/>
            <a:ext cx="828036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роки сердца и беремен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отивопоказания к  вынашиванию беременности у женщин с приобретенными пороками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68000" y="3933360"/>
            <a:ext cx="828036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астота поражения клапанов сердц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трального клапана – 88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ортального – 44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хстворчатого – 10-16% (М.М. Шехтман 1999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Относительные противопоказания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Латентно текущий ревмокард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Первичный или рецидивирующий ревмокардит в течение последних 12 — 24 ме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Митральный стеноз с НК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, или с признаками легочной гипертензии, или с наличием в анамнезе приступов сердечной аст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Другие резко выраженные "чистые", сочетанные и сложные пороки сердца без явных признаков нарушения гемодинамики или при наличии в анамнезе нарушения кровообращения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Поражение миокарда с редкими и недлительными приступами пароксизмальной тахикардии, с полной атрио-вентрикулярной блокадой с частотой ритма не реже 40 уд/ мин; с блокадой левой ножки пучка Гиса; с частой желудочковой иди суправентрикулярной экстрасистолией; с наличием в анамнезе нарушения кровообращения НК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.(З.Ш.Гилязутдинова, 199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Абсолютные противопоказания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ктивно текущий ревмокард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Первичный или рецидивирующий ревмокардит в течение последних 12 месяц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Митральный стеноз с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А" или наличие в анамнезе повторных случаев отека легких нарушений кровообращения     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А" 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Другие "чистые", комбинированные и сложные пороки сердца с Н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с явлениями легочной гипертензии; или наличием в анамнезе нарушения кровообращения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А с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Поражение миокарда с сердечной недостаточностью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 или с наличием в анамнезе случаев с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А", мерцательной аритмией или пароксизмами трепетания и мерцания предсердий; с пароксизмами тахикардии с явлениями сердечно-сосудистой недостаточности; с политонной или частой предсердной экстрасистолией; с нестабильной атриовентрикулярной блокадой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.; с полной атриовентрикулярной блокадой с частотой ритма менее 40 уд/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н или приступами МЭ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. Неэффективная комиссуротомия или рестеноз с Н-1. (З.Ш.Гилязутдинова, 199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Беременность у женщин с врожденными пороками сердц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68000" y="1557000"/>
            <a:ext cx="82803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врожденным порокам сердца относят около 50 нозологических аномалий развития сердечно-сосудистой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астота врожденных пороков у беремен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фект межпредсердной перегородки – 23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фект межжелудочковой перегородки -18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крытый аортальный проток – 23%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ноз легочной артерии – 11%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трада Фалло – 1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ноз устья аорты -4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арктация аорты – 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гие пороки – 8%   (М.М. Шехтман 1996г)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-2116800" y="3245760"/>
            <a:ext cx="1820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бсолют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Абсолютные противопоказания к вынашиванию беременности у женщин с врожденными пороками сердц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2133360"/>
            <a:ext cx="8964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роки со сбросом крови слева  направ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ДМПП, ДМЖП, ОАП с НК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ади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роки со сбросом крови справа налево и с артериальной гипоксемией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тетрада Фалло, пентада Фалло, транспозиция магистральных сосудов, комплекс Эйзенменгера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роки с препятствием кровоток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выраженный стеноз легочной артерии, выраженный стеноз аорты, коарктация аорты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 - 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ерывание беременности считается 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обязательны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наличии одного из абсолютных противопоказ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ух относительных противопоказа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ого из  относительных противопоказаний в сочетании с двумя отягощающими фактор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этих случаях необходимость прерывания беременности преподносится как решение, не имеющее альтернатив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ерывание беременности 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настоятельно рекомендуетс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аличии одного из относительных противопоказа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наличия двух и более отягощающих фактор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больная категорически настроена на донашивание беременности, необходимо повторное стационарное обследование на сроках 16 — 20 недель беременности для окончательного решения вопро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Отягощающие факторы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ичие сопутствующей патологии (хр.очаги инфекции, анемия, эндокринопатия и д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благоприятные психоэмоциональные факторы (нежеланная беременность, семейные неблагополучия, пессимистическое отношение к беременности, наличие в семье маленьких детей или лиц, нуждающихся в уход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ицательное отношение к лече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переносимость сердечных и противоревматических препара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раст – менее 20лет и старше 30л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Беременность у женщин после перенесенной операции на сердц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ременность допускается при полной хирургической коррекции порока и отсутствии рецидива (время наступления беременности после операции – не ранее 1,5-2 ле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виду высокого риска тромбоэмболических осложнений беременность у женщин с  искусственными клапанными протезами противопоказа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ные с искусственными клапанными протезами вынуждены систематически принимать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нтикоагулян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параты непрямого действия (фенилин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нкумар и др.) беременным противопоказаны, так как они, проникая в кровь плода, могут вызвать у него внутричерепное кровоизлияние, врожденную слепоту, умственную отсталость, самопроизвольный аборт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отказе прерывания беременности таких больных переводят на прямые антикоагулянты (гепарин и его производны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Методы прерывания беременност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рывание беременности на ранних сроках производится методом выскабливания полости матки или вакуум-аспирации с обязательным проведением премедикации и обезболив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поздних сроках беременности прерывание ее осуществляется путем влагалищного кесарева сечения (до 26 недель) или абдоминального кесарева сечения (после 26 нед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Степени риска осложнений беременности и родов у женщин с пороками сердца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Л.В.Ванина (1972)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822960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и рис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тносятся беременные с пороками сердца без выраженных признаков сердечной недостаточности и обострения ревматиз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тносятся беременные с начальными симптомами сердечной недостаточности и активной фазой ревматизма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Степени риска осложнений беременности и родов у женщин с пороками сердца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Л.В.Ванина (1972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43200"/>
            <a:ext cx="82296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тепе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риска относятся беременные с  признаками  правожелудочковой недостаточности , наличие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и активности ревматизма,  возникшей мерцательной аритмией, легочной гипертензие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беременные с признаками левожелудочковой или тотальной недостаточности, наличие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и активности ревматизма, кардио- или атриомегалией,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ительно существующей мерцательной аритмией, с тромбоэмболи -ческими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явлениями, легочной гипертензие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Особенности течения беременности у женщин с пороками сердц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нние и поздние гестоз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ПН: гипоксия плода, ЗВУ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окая  перинатальная заболеваемость и смертность (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1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 – 5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роза прерывания беременности (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%,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родовые гнойно-септические заболе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Особенности течения болезни сердца при беременности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острение ревматического процесса, миокарди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компенсация порока (появление или усугубление степени тяжест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явление нарушений сердечного рит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омбоэмболические осложн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Особенности течения родов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омалии родовой деятельности Прогрессирование гипоксии плод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РП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овотечение гипотоническое или чаще коагулопатическое (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7%,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33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ГС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 стороны ССС – отек легких, нарушение сердечного ритма, тромбоэмбол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Родоразрешение женщин с  заболеванием сердца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Родоразрешение через естественные родовые пу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Родоразрешение через естественные родовые пути с выключением потужного периода (акушерские щипцы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.Родоразрешение путем кесарева сеч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Родоразрешение через естественные родовые пут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компенсации кровообращ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начальных стадиях недостаточности, ликвидированных к сроку ро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отсутствии акушерских показ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Родоразрешение с выключением потужного период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ст. у первородящих 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ст. у повторнородящи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 ст. во время беременности, перешедшей к сроку родов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ст.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арушении кровообращения во время род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риступах коронарной недостаточности во время беременности или во время род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высокой легочной гипертензи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мерцательной аритм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компенсированном пороке, если второй период родов затягивается дольше 30-40 ми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Гемодинамические исследования показывают, что по сравнению с другими методами родоразрешения наименьшие сдвиги в системе кровообращения происходят именно при родах с выключением пот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52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астота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выявления болезней сердца у беременных колеблется от 0,4% до 4,7%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структуре сердечно-сосудистых заболеваний у беременных частот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обретенных пороков - 75-90%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рожденных – 3-10%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иокардитов, кардиопатий и ишемической болезни – 4%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казания к кесареву сечению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., сохранившейся к сроку родов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септическом эндокардит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острой сердечной недостаточности, наблюдавшейся во время беременности или развившейся в род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высокой легочной гипертензии, сочетающейся с недостаточностью кровообращ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-Ш с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бинированная недостаточность аортального и митрального клапанов;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казания к кесареву сечению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продолжение)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тральный стеноз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епен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апанные протезы сердц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омбоэмболии, перенесенные во время беременности;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ложнения или неудовлетворительный эффект хирургической коррекции пороков сердца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к легких, перенесенный во время беременност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арктация аорты, в том числе и после хирургической коррек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0360" y="287280"/>
            <a:ext cx="7775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Кесарево сечение противопоказано: (Б.Н.Серов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)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яжелая декомпенсация при кардиомегалии, циррозе печ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тяжелом расстройстве сердечного рит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сложных врожденных пороках синего тип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крайней степени легочной гипертензии. Таким больным беременность противопоказана, а родоразрешение лучше производить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ловиях гипербарической оксигенации. Прогноз  неблагоприятны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Ведение родов у беременных с пороком сердца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ды у женщин с декомпенсацией кровообращения лучше вести в полусидячем положении  для сведения к минимуму увеличения объема крови за счет притока из нижних конечностей. Полусидячее положение позволяет также облегчить дыхание больной при наличии застоя крови в легких. Щадящим является также положение лежа на боку для замедления декомпрессии нижней полой вены (ведущей к увеличению преднагрузк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процессе родов , кроме оценки акушерской ситуации, необходимо определение частоты пульса, дыхания и артериального давления каждые 30-60 мин(лучше кардиомонитор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ждые 1-2 ч следует производить аускультацию легких для  обнаружения появления хрип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больных с  аритмией показана ЭК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часовое измерение количества м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458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одах необходима ранняя амниото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казано тщательное обезболивание всех периодов родов(методом выбора является ПД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казана профилактика кровотечения в конц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раннем послеродовом  периодах.( метилэргометрин предпочтительнее, так как он способствует улучшению кровоснабжения легких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1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го серьезного внимания требует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ретий период род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обусловлено быстрой мобилизацией жидкости из   внесосудистого пространства, а также резким оттоком крови из нижних конечностей, что связано с опорожнением матки и исчезновением сдавления нижней полой ве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рганах брюшной полости происходит депонирование кров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 избежание быстрого переполнения легких кровью и отека легких после родов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следует класть тяжесть на живо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родильницы при пороках сердц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провождающихся легочной гиперволемией (митральный стеноз, комплекс Эйзенменгера, септальны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фекты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ороках с узкой легочной артерией (стеноз ее, тетрада Фалло) для предотвращения острой правожелудочковой недостаточност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также при септальных дефектах и при открытом артериальном протоке, чтобы не создавать условий для сброса крови справа налев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ороках сердца с увеличенным сердечным выбросом (аортальная недостаточность, митральная недостаточность), наоборот, после родов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обходимо положить тяжесть на живо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для уменьшения депонирования крови и обеспечения ее достаточного притока к сердцу во избежание гиповолемии, гипоксии мозга и коллапс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слеродовый период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зависимо от способа родоразрешения после родов существуют два критических период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ервых часов до 3-5-го дня, когда нарастают явления сердечной недостаточ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концу первой недели после родов, когда увеличивается возможность обострения ревматизм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вязи с этим выписка женщин из родильного дома разрешается после ликвидации признаков недостаточности кровообраще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сутстви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пенсации кровообращения в течение 3-4 нед. больная должна быть переведена в терапевтический стациона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теринская смертность при заболеваниях органов кровообращения достигает 1,2-2,5% (В.Н.Серов и соав.1989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структуре экстрагенитальных заболеваний, послуживших причиной материнской смертности – болезни сердца составляют – 28,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адии кормление ребенка грудью противопоказан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ослеродовом периоде показаны а/б терапия и профилактика тромбоэмболических осложн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абилитационные мероприятия проводит на дому участковый терапевт, под наблюдение которого выписывается больн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Заболевания сердечно-сосудистой системы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у беремен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41497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ртериальная гипертенз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настоящее время 25-30% населения России страдает гипертонической болезнь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астота гипертензивных состояний  у беременных колеблется от 7до 29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данным ВОЗ с гипертензией связано 20-33% случаев материнской смерт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Б у большинства беременных обычно существует до беременности, но может проявиться или впервые быть выявлена во время берем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Течение ГБ во время беременности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 подвержено определенным колебаниям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 начале беременности и в конце ее АД повыш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 середине -  АД понижае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течение ГБ наблюдаются   кризы (в 24%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сходит усугубление степени тяжести Г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ается часто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церебральной патологии (инсульт, нарушение мозгового кровообращен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изменения сосудов глазного дна (гипертоническая ангиопатия) и гипертонической ретинопатии (отечность и кровоизлияния в сетчатк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развития нефроангиосклер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Осложнения беременности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(М.М.Шехтман, 1996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)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стоз различной степени тяжести (у 36-86% беременных с ГБ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произвольный аборт (5,5%) и преждевременные роды ( 23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ПН со ЗВУР (10-20%), в/утробная асфиксия плода (2,6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Р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Ведение беременных с ГБ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ременные с ГБ должны находиться на  учете у терапевт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стота посещения – обычн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местное ведение с терапевтом – 1 раз в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ловине беременности, во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ловине – 2 раза в месяц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улист – 2-3 раза , затем по показани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м исследований:  ЭКГ; УЗИ, КТГ, ДМИ пл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оки плановых госпитализаций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 госпитализация при наличии ГБ с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ст. до 10нед для решения вопроса о вынашивании берем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госпитализация дородовая в 37-38н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ГБ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 – госпитализация до срока прерывания или родоразрешения (при отказе женщины прервать беременность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отсутствии эффекта от амбулаторного лечения, присоединении гипоксии плода, гестоза, угрозы прерывания и т.д. – экстренная госпитализац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епени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епень риска – беременные с гипертонической болезнь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ад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риска – беременные с гипертонической болезнь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стади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риска – беременные с гипертонической болезнь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дии и злокачественной гипертони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тепень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епени риска беременность протекает  удовлетворитель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гестоз развивается у 2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реждевременные роды у 12%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кризы, стенокардия  - очень редк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еменность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епени риска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опусти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тепень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и риска частота осложнений беременности значительно возраста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гестоз  развивается у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реждевременные роды у каждой пят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антенатальная гибель плода у каждой  пят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гипертонические кризы , коронарная недостаточность  развиваются час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стабильно высокое артериальное давление, несмотря на ле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ременность в этой группе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желательн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I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тепень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епени риска возникает еще больше осложнений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пертензия  стабильна, она с трудом поддается воздействию гипотензивных средст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кольку для гипертонической болезн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адии характерно декомпенсированно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ояние почек (уремия), мозга (нарушение мозгового кровообращения), сердца (недостаточность кровообращения), частота осложнений беременности более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этой степени риска беременность абсолютно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тивопоказ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теринская смертность отмечается именно в этой группе больн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Акушерская тактика у беременных с заболеваниями сердца  определяется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2205000"/>
            <a:ext cx="8713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личием и степенью недостаточности кровообращ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тивностью ревматиз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чение ГБ у беремен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чение ГБ включает на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дативных сре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отензивных препаратов (альфа-метилдофа, антагонисты кальция, антагонисты кальциевых каналов, альфа и бетта-адреноблокаторы, спазмалитические средств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мптоматические препараты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Осложнения в родах у беременных с ГБ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омалия родовой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грессирование гипоксии пл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НР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грессирование гест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угубление гипертензии в родах, кри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излияние в головной мозг, на глазное д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лойка сетчат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ушение мозгового кровообра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те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Ведение родов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686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ы консервативно-выжидатель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ана ранняя амниотом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дится почасовой контроль АД, ЧС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ояние плода оценивается с помощью КТ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одах продолжается гипотензивная, седативная терап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язательным является тщательное обезболивание (методом выбора является перидуральная анальгезия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отугах при повышении АД выше 160 мм рт ст показана управляемая нормотония ганглиоблокаторами короткого действия. При отсутствии эффекта -  выключение потуг наложением акушерских щипц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филактика кровотечении проводится одномоментно и пролонгировано  (на 2-3ч) окситоцин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появлении осложнений – переход на оперативное родоразреш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оказания к кесареву сечению у беременных с ГБ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Б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. тяж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окая гипертенз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четание ГБ с тяжелым гестоз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яжелая гипоксия плода и ЗВУ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НР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тройство мозгового кровообра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излияния, отек  на глазном дне и отслойка сетчат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Заболевания сердечно-сосудистой системы у беремен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4076280"/>
            <a:ext cx="822960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Артериальная гипотензия и беремен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Артериальная гипотензия у беременных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ушение сосудистого тонуса носит характер артериальной гипотензии при АД ниже 100/60 мм. рт с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ое давление встречается у 12% беременн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едение беременных с артериальной гипотензие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териальная гипотензия не является противопоказанием к прерыванию беремен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та наблюдения и объем обследования как при физиологической  берем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чение проводится амбулаторно при субкомпенсированной стадии. Лечение при декомпенсированной стадии проводят в стациона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лечении используют лечебную физкультуру, водные процедуры, фитотерапия , физиотерап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Осложнения беременности при артериальной гипотенз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соединение гестоза (25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роза прерывания (в 3-5 раз чащ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ПН ( гипоксия плода и ЗВУР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иление гипотензии на 17-24нед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иление клинических проявлений гипотензии (слабость, головокружение, обмороки, потливость, ослабление памяти и др) во время беремен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Осложнения родов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тологический прелиминарн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ушение сократительной деятельности матки (за счет истощения энергетических ресурс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воевременное излитие околоплодных в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поксия пл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течения  (гипотонические и коагулопатическ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есарево сечение проводится по акушерским показания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Диспансерное наблюдение в женской консультаци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зависимо от состояния беременных госпитализируют 3 раз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-10 нед. беременности для уточнения диагноза и решения вопроса о возможности ее сохран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8-29 нед. -в период наибольшей гемодинамической нагрузки на сердц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3 нед. до срока родов - для подготовки к ни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та посещения ж/к 1 раз в 2 недели, после 30нед – 1раз в недел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полнительно к стандартным методам обследования беременным с заболеваниями ССС проводя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б/х анализ крови с ревмопробам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ЭКГ,  УЗИ сердца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ентгенологическое исследование органов грудной клетки (после 10нед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инамическое наблюдение терапевта-кардиолога (1 раз в 1-3нед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анация очагов хронической инфек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ценка состояния фетоплацентарного комплекса (УЗИ, ДМИ, КТГ в динамик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казания для </a:t>
            </a: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госпитализации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в любом сроке беременн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явление признаков недостаточности кровообращ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острение ревматиз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ложнения беремен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или обострения ревматизма в ранние сроки беременности необходимо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ервать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еменность, поскольку лечебные средства,  примененные в эти сроки, неблагоприятно влияют на развитие пло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 12 нед. лечение возможно. При отсутствии эффекта от медикаментозной терапии показано кардиохирургическое леч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операция не может быть произведена, возникает необходимость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ерывания беременнос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1:06:36Z</dcterms:created>
  <dc:creator>Iggy</dc:creator>
  <dc:description/>
  <dc:language>en-US</dc:language>
  <cp:lastModifiedBy> </cp:lastModifiedBy>
  <dcterms:modified xsi:type="dcterms:W3CDTF">2007-02-08T06:22:14Z</dcterms:modified>
  <cp:revision>70</cp:revision>
  <dc:subject/>
  <dc:title>Заболевания сердечно-сосудистой системы  при беременности </dc:title>
</cp:coreProperties>
</file>