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528AC-67B0-438A-8DFA-484F7414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EBA64-66CA-4238-9073-58B2E276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D7A9F-D94C-4909-AACB-08661711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5CD3B-7195-46D9-AE6E-EAFCA2D3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B201-EB7C-450C-AA9C-0947A821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8EC4-4020-4878-A858-5CDA3F65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7268-3DC0-4881-828C-950DB35A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5022-A172-4196-B3CE-4A589CDE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001B-2125-4E78-953B-C8C9B82D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EFDB-9042-42FE-BBCA-6FD35C0D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34D5-FED6-4B0B-8466-D6B2DE18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AF063-2B09-469E-A41E-DABF3FFF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4279-1C4C-4793-80BF-CF78C9CE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BE32-A511-4BA1-985F-D7FF6F1A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6DBE-EFAC-4C19-AC8D-F19BF906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EAF7-2980-4099-A2E7-A7F93BED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EBE1-3AD8-4E7D-BF5D-7DCC8E5F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2A43E-0C86-45A3-9185-EFFE6962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6C54A-08F7-4805-9055-26515C8C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4DF47-8837-44A5-B8F6-67BAF019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08780-81A0-4FFC-827C-2D5CA7BD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288B1-826F-45C0-A1C4-59945290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5065C-76C7-4176-92D3-813635F5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D286C-A345-4259-AB4D-451B21FF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F1AC-F7A3-4C7E-A584-CA90EDED42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F099-364A-49A3-A81C-6CF4825672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1413000"/>
            <a:ext cx="81356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Болезни печени, легких и почек при беременности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Заболевания печени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у беременных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родораз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оразреш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олжно быть быстрым и бережны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очтительно абдомина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ы  амниотомия, родовозбужде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орочение второго периода родов путем наложения акушерских щипц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ое - успеть родоразрешить женщину до гибели плода и появления признаков ДВС-синдро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слеоперационный пери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слеоперационном периоде проводится профилактика массивного кровотечения и гнойно-септических осложн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ятся свежая донорская кровь, белковые (альбумин, плазма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ологически активные препараты (гемодез, реополиглюкин, трент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ранти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гибиторы протеа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контрикал, гордок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рочном родоразрешении можно снизи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нску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ерт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2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синдро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тяжелое осложнение беременности, возникающее чаще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иместре ее и характеризующееся определенным симтомокомплексо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молизом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lisi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м уровня ферментов печен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ated liver enzim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омбоцитопенией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playelet coun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индром обычно, но не всегда развивается на фоне типичного гестоз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нская смерт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индроме составляет 3,5%, 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инаталь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79%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иопатогенез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96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новение заболевания связывают со снижением продукции простациклина, вызывающего вазоконстрикцию в области плаценты. Это приводит к изменениям эндотелия, высвобождению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центарного тромбопласти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поступлению его в материнский кровоток. Следствием этого является адгезия и агрегация тромбоцитов, возникае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ромбоцитопе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пассаже эритроцитов через измененные микрососуды происходи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емоли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Нарушение перфузии в печени ведет к развитию токсического гепатоза - некрозам паренхимы и в ряде случаев - к субкапсулярной гематоме. В результате 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вышается уровень ферментов в кров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ини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76000"/>
            <a:ext cx="822960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болевание возника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69% случаев в 35 нед.  беремен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0% -  раньше 27 нед. берем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3 % - в первую неделю после ро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ини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вная б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шнота, рвота (кровавая рво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ффузные или локализующиеся в правом подреберье и/или в эпигастрии боли в живо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т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воизлияния в местах инъе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ессирующая печеночная недостаточность, судороги и ко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частыми осложнения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индрома являются ПОНРП (22%) и острая почечная недостаточность (8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яжесть состояния быстро нараст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бораторная диагностит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500 е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общего билирубина ( как  прямой, так и непря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а тромбоцитоп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ается внутрисосудистый гемолиз(гемолитическая анем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ается содержание антитромби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дновременно увеличиваются протромбиновое время и частичное тромбопластиновое время, уровень фибриногена сниж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вается содержание азотистых веществ в кров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а гипогликем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фологическое исследование печени свидетельствует, что в основе патологического процесса лежит синдром ДВС, некрозы печени. Наиболее точный  диагноз возможен с помощью компьютерной томографии печ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ечение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индрома предусматривает назначение плазмафереза, переливание плазмы, обогащенной тромбоцитами, или концентрата тромбоци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уется экстренное родоразрешение через естественные родовые пути при подготовленной шейке матки и отсутствии противопоказаний к самостоятельным родам. При неподготовленности родовых путей производится кесарево се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ается интенсивная терапия, включающая глюкокортикоиды (не менее 1 г преднизолона в сутки), введение иммуноглобулинов, гепатопротекторные сре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родов все призна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индрома исчезают в течение 5-7 дней и обычно не повторяются при последующих беременнос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утрипеченочный холестаз беременных (холестатический гепатоз беременных, доброкачественная желтуха беременных, идиопатическая желтуха беременных, возвратная холестатическая внутрипеченочная желтух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414936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по частоте причина желтухи у беременных после вирусного гепат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ологически он связан только с беремен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речается у 0,1-2% береме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иология и патогенез холестатического гепат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ют, что в основе заболевания лежит генетическая предрасположенность к необычной холестатической реакции на продуцируемые во время беременности эстроге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ют, что избыток эндогенных половых гормонов, свойственный периоду беременности, оказывает стимулирующее влияние на процессы желчеобразования и ингибирующее - на желчевыде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выделения желчи способствует обратной диффузии билирубина в кровь. Это предположение подтверждается тем, что данный патологический синдром развивается у 80-90% женщин во второй половине беременности и подъем содержания эстрогенов коррелирует у них с развитием кожного зу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6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езни печени у беременных могут быть непосредственно связаны с гестацией и сопутствовать 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первую групп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ходят синдром Шихана (острая жировая дистрофия печени), внутрипеченочный холестаз беременных 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индр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торую групп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ставляют заболевания, которые не связаны с беременностью, а возникают во время нее (например, острый вирусный гепатит) или беременность развивается на их фоне (хронический гепатит, цирроз печени, доброкачественная гипербилирубинем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ини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лестатического гепатоз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болевание может возникнуть при любом  сроке беременности, но чаще отмечается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мест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чительный кожный з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туха (кожный зуд возникает  за несколько недель до появления желтух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шнота, рвота (неинтенсивны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и в  правом подребер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стальном состояние беременных почти не изменяется. Печень и селезенка, как правило, не увеличе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абораторная диагностика холестатического гепат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 (в 5 раз) уровня билирубина (в основном за счет его прямой фра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ная уробилиногену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(в 10-100 раз) содержания желчных кисл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ает активность ряда экскреторных ферментов, свидетельствующих о холестазе: щелочная фосфатаз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мма-глютамилтранспептидаза, 5-нуклеотид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сть трансаминаз (аланинаминотрансфераза и аспартат-аминотрансфераза) остается в пределах нормы или повышается незначит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вается коцентрация холестерина, триглицеридов, фосфолипидов, р-липопротеи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аются показатели сверты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еинограмма не измен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0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стологические исследования печени при доброкачественном холестазе беременных показывают сохранение структуры долек и портальных полей, признаки воспаления и некроза отсутству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ственный патологический признак - очаговый холестаз с желчными тромбами в расширенных капиллярах и отложение желчного пигмента а соседних печеночных клетк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ложнения  беременности при холестатическом гепат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ушерская ситуация, как и у всех больных с патологией печени, характеризуе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ышенной частотой преждевременных ро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ой перинатальной смертностью - до 11-13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сокой частотой тяжелых послеродовых кровотечени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Лечение холестатического гепатоз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сих пор нет лекарства, специфически действующего на холест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ся симптоматическо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чение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сновная задача которого - подавление кожного зуд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араты, связывающие избыток желчных кислот 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ви ( холестирамин , антациды:маалокс, альмагель, фосфа-люг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пые тюбажи с ксилитом, сорби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чегонные из группы холецистокинетиков. Антигистаминные средства обычно не эффективны, поэтому назначать их нецелесообразно. Лекарственный метаболизм происходит в основном в печени, поэтому нежелательна медикаментозная перегруз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Родоразрешение беременных с холестатическим гепатозом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ипеченочная холестатическая желтуха беременных у большинства женщин протекает доброкачественно, прерыва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ременности не показа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ы у таких женщин рекомендуется проводить в лечебных учреждениях, где будет обеспечено оптимальное лечение преждевременно родившегося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одах показана профилактика кровотечения (часто коагулопатическог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ритических ситуациях при появлении опасности для плода следует вызывать преждевременные роды после 37 нед. берем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трый вирусный гепат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ое частое заболевание, сопровождающееся желтухой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н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вязанное с беременност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 по этиологическому признаку различают несколько вариантов острого вирусного гепатита: вирусный гепатит А (ВГА), вирусный гепатит В (ВГВ), вирусный гепатит С (ВГС), вирусный гепати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 вирусный гепатит Е (ВГЕ). Имеются достаточно четкие представления о вирусном гепати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есомые предположения о существовании вирусного гепати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Вирусный гепатит А (ВГА)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Особенности течения беременност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роза прерывание беременности (в 2 раза чаще); в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иместрах беременности риск выше, чем в перв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ее тяжелое течение гепатита (в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ловине беременности  гепатит протекает тяжелее, чем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дение родов при остром В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Роды  не грозят роженице какими-либо осложненииями, связанными с гепати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Во время родов  плод всегда находится в состоянии гипок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ри ведении родов  нужно иметь в виду прежде всего состояние плода и независимо от срока беременности их нужно вести как преждевреме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ВГА во всех стадиях заболевания не является противопоказанием для родоразрешения путем кесарева сечения (по строгим акушерским показаниям), но предпочтение следует отдавать родоразрешению через естественные родовые пу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5.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роды произошли в острой стадии ВГА, это повышает риск послеродовых воспалительных заболеваний у родильницы и риск постнатальной заболеваемости у новорожд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Ребенок родится здоровым. Он не подвержен риску инфицирования ВГА и в специальной профилактике не нуждает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ГА относится к самоизлечивающимся инфекциям, поэтому не требуется медикаментозная терапия, можно ограничиться лечебно-охранительным режимом и дие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филактика ВГА у береме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ении общегигиенических мероприят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исключение контактов с желтушными больны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беременной, имевшей контакт с больным ВГА (и всем беременным в очаге эпидемии), у-глобулина однократно в дозе 3-5 мл внутримышеч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-глобулин введен до заражения вирусом или в раннем инкубационном периоде, он может предотвратить или ослабить клиническое течение заболевания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рая жировая дистрофия печени беременных (синдром Шихана, острый жировой гепатоз беременных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рая желтая атрофия пече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2331720"/>
            <a:ext cx="822960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синдром описан впервые  в 1934 году, а подробная клиническая и гистологическая характеристика заболевания да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eha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1940 году. Он предложил название «острая желтая атрофия печени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о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 случай на 13 500 ро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нская смерт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нем составляет 60-85%, плод погибает еще чащ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трый вирусный гепатит В (ВГ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ус гепатита В относится к ДНК-содержащим вирусам, поражающим преимущественно клетки печ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будитель гепатита В передается от больного или вирусоносителя с кровью и всеми биологическими жидкостями: спермой, слюной, мочой, моло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ца, перенесшие гепатит В и имеющие антитела 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sA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вторно не заболев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ус ГВ проходит через плаценту, и возможно внутриутробное заражение пл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преимущественно происходит интранатальное заражение (95%), на пре- и постнатальное заражение приходится 5% случа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детей может возникнуть пожизненная персистенция вируса, в результате чего к 20 годам они умирают от цирроза или рака печ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ют, что в мире имеется 1 млрд инфицированных, 300 млн носителей вируса Г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обенности течения беременности при остром ВГ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ГВ представляет реальную угрозу для жизни женщины, плода и новорожденного (летальность вне беременности составляет 0,4-2%, у беременных в 3 раза выш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ний токсикоз – 35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стоз – 22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Р -  2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роза прерывания беременности  -  54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5% случаев дети в дальнейшем отстают в общем развитии и предрасположены к различным заболе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ается риск ПГСЗ ( угнетение иммунного статуса  за счет беременности и за счет гепатита, и активизации на этом фоне бактериальной микрофло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родильниц часто возникают поздние послеродовые кровотечения, их риск сохраняется на протяжении 2-3 недель после родов (на фоне эндометри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Особенности течения ВГВ у беременны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худшение течения острого ВГ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ая печеночная недостаточность клинически выражается энцефалопатией, прогрессирующей желтухой, геморрагическим диатезом, нарушением белковосинтетической и. обезвреживающих функций печени. Основным признаком является энцефалопа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слеродовом периоде - ухудшение течения заболевания, независим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о, каким путем произошло прекращение беременности: роды или выкидыш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ГВ, развившийся в периоде лактации, протекает еще тяжелее, чем во время берем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больше времени прошло от начала заболевания до момента родов, тем меньше осложнений возникает у беременной, роженицы, родильницы, плода и новорожден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чение родов при остром ВГ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од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строй стадии ВГВ по количеству и структуре осложнений практически мало отличаются от родов у здоровых рожен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касается нарушений сократительной деятельности матки, кровотечений во время родов и в раннем послеродовом пери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строй стадии ВГВ всегда от внутриутробной гипоксии страдает плод, нагрузка на него увеличивается во время родов, особенно преждевреме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Лечение беременных с острым ВГ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нцип лечения при легкой и среднетяжелой формах ВГВ тот же что и при ВГ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етотерапия без существенного медикаментозного ле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тяжелой форме острого ВГВ возникает необходимость в лекарственных средств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чение угрозы прерывания берем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филактика ВГ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илактиктически всем беременным производят скрининг на носительст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sA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8 и 32 неделях берем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питализируют больных женщин и вирусоносительниц в инфекционную больницу с акушерским стациона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илактику ВГВ у новорожденных, матери которых являются носителя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sA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перенесли ВГВ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иместре беременности, осуществляют вакциной в первые 24ч, через 1,2 и 12 м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распространенн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sA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популяции более 2% в профилактике нуждаются все новорожде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трый ВГС и берем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ыработано единого взгляда на возможность передачи инфекции от матери плоду (антенатально, интранатально и постнатально), данные литературы очень противоречивы. ВГС проходит через плаценту, это пассивная передача их плоду от матер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я акушера в острой стадии ВГС у беременной такие же, как при тяжелой фор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Г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упреждение прерывания берем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ение родов в любом сроке беременности как преждеврем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илактика и лечение послеродовых осложн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натальная смертность при ВГС, начавшемся остро, чрезвычайно выс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чение острого вирусного гепатита С у беременных такое же, как лечение ВГА и ВГ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илактика ВГС подобна профилактике ВГВ. Однако вакцина против ВГС пока не созд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циональная тактика ведения беременности и родов при острых вирусных гепатита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188800"/>
            <a:ext cx="822960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евременная и полноценная диагностика заболевания, которая включает в себя определение этиологии В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н лечения ВГ и ведения беременности составляется инфекционистом и акушером и корригируется в зависимости от степени тяжести и стадии В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беременные в острой стадии ВГ подлежат госпитализации, которая должна быть организована таким образом, чтобы в стационаре можно было осуществить полноценную диагностик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чение основного заболевания, а также необходимую акушерскую помощь во время беременности и родовспомо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циональная тактика ведения беременности и родов при острых вирусных гепати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314080"/>
            <a:ext cx="822960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ноценное лечение основного заболевания - наиболее эффективный способ профилактики акушерских осложнений у больной беременной, у плода и новорожден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начаемые инфекционистами лекарственные средства, включая все реже применяемые кортикостероид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гают беременной, плоду и новорожденному компенсировать повреждающее действие В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циональная тактика ведения беременности и родов при острых вирусных гепати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896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ый принцип тактики ведения беременности в острой стадии ВГ любой этиологии - предупреждение прерывания берем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давляющем большинстве случаев обычные средства лечения, включая гормональные, примененные своевременно и последовательно, оказываются достаточно эффектив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ства, применяемые инфекционистами при среднетяжелом и тяжелом течении ВГВ (вливание растворов глюкозы, гемодеза, аскорбиновой кислоты и др.), способствуют улучшению питания и снижению уровня гипоксии пл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иология ОЖГ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и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болевания  не яс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развитие связывают с тромбозом сосудов печени, побочным действием тетрациклина и левомицетина, определенное значение имеют нарушения иммунного гомеостаза в системе мать - плод,  возможно, болезнь связана с генетическими дефектами ферментных систем печ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биопсии определяют массивное диффузное ожирение печени без некроза гепатоцитов и воспалительной инфильтр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ое ожирение печени проявляется тяжелой печеночно-клеточной недостаточностью, геморрагическим синдромом, обусловленным диссеминированным внутрисосудистым свертыванием крови и поражением поче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циональная тактика ведения беременности и родов при острых вирусных гепати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начинается родовая деятельность в острой стадии В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иодах родов необходимо использовать акушерские приемы и лекарственные средства для предупреждения и лечения внутриутробной гипоксии плода и родового травматиз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юбом сроке беременности роды следует вести как преждевременные с широким использ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зболивающи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пазмолитических средств и максимальным сокращение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го периода,  с использованием    перинеотомии и пудендальной анесте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трой стадии ВГ предпочтительны роды через естественные родовые пути, однако при необходимости, по акушерским показаниям, возмож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оразреш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ем кесарева сечения под общим обезболиваний  или эпидуральной анестез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88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чение послеродовых заболеваний родильницы и новорожденного необходимо начинать возможно раньше и проводить в полном объем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стром периоде ВГ абсолютно противопоказано прерывание беременности, независимо от срока беременности, медицинских показаний и желания женщин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рая стадия ВГ' заканчивается при наличии клинических и лабораторных признаков выздоровления, т.е. когда наступает период реконвалесценции. Прерывание беременности лучше производить именно в это врем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онические гепатиты: хронический персистирующий(ХПГ) и хронический активный ( ХАГ)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данным литературы у, 50-60% пациенто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ХА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азывает неблагоприятное влияние на течение беременности и ее исх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ринская смертность составляет 8-9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нтанные аборты - 15-20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ждевременные роды - 21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натальная смертность 200-220%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трение и ухудшение течения  заболеваний печени  -  22% (обычно в начале беременности или через 1-2 мес. после ее исх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 улучшалось во второй половине беременности, по-видимому, под влиянем гиперкортицизма, свойственного этому периоду гес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нщинам, больным хроническим активным гепатитом беременность противопоказ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1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чени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ПГ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окачественное, заболева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рогрессирует много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онический персистирующий гепатит у большинства беременных протекает более доброкачественно, чем Х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менность при этом заболевании не противопоказа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ложнения беременности ред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при хр. гепатите В возможность передачи вируса плоду так же велика, как при остром гепат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ирроз печен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ирроз печени в сочетании с беременностью встречается ред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ным циррозом печени должно быть предложено прерывание беременности на ранних ее сро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а может быть сохранена при настойчивом желании женщины, у которой цирроз печени не сопровождается признаками декомпенсации и выраженной портальной гипертенз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ирроз печен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стрение процесса в период беремен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произвольные аборты и преждевременные ро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ртворожд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нская смертность высок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вотечени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родовом периоде или после аборта из-за нарушений функций печ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ьший подъем уровня портальной гипертензии и риск кровотечения из вен пищевода существует в конц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чал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местров берем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брокачественные гипербилирубинем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берем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н "доброкачественная гипербилирубинемия" - собирательное понятие, включающиие различные заболевания, связанные с нарушением обмена билируб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в крови уровн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ямого билируб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условлено нарушением оттока желчи по холангиолам или внепеченочным желчным прото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в крови уровн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прямого билируб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следствием снижения способности гепатоцитов захватывать билирубин из плазмы крови, обусловленной недостаточностью трансфертной активности клеток печ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Жильбера обусловлен повышением уровня непрямого билирубина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Дабина-Джонсона - врожденное нарушение желчевыделительной функции печени с увеличением в крови преимущественн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го билирубина, но также и непрям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Ротора близок к предыдущему варианту и также характеризуется гипербилирубинеми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рямой реакц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0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таких больных основным признаком болезни является иктеричность склер и гипербилирубинемия с прямой или непрямой реакци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едко имеются диспепсические расстройства, незначительная спленомегал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функциональных проб печени изменяется в основном билирубин сыворотки крови с преобладанием прямой или непрямой реакц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брокачественные гипербилирубинемии не представляют опасности для беременных женщин и не являются противопоказанием для ее сохра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Схема динамического наблюдения за беременными с заболеваниями печен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 посещения до 30нед 2р в месяц, затем – 3-4 раза в 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апевт – 1раз в 2-3 м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льтация гастроэнтеролога, гепато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/х исследование: белок, билирубин – прямой и непрямой, холестерин, глюкоза, креатинин, печеночные пробы, трансаминазы (щелочная фофатаза, лактат-дегидрогеназа, аспартатаминотрансфераза, аланинаминотрансфера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мостази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И печени, желчного пузыря и прот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ния к госпитализации – обострение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ff"/>
                </a:solidFill>
                <a:latin typeface="Arial"/>
              </a:rPr>
              <a:t>Болезни печени, легких и почек при берем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4417920"/>
            <a:ext cx="82296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болевания легких у береме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675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В течении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заболевания выделяют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три стад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в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адия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желтушная) начинается на 30-34-й неделе берем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шнота, рв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и в живо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аб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жный зу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ж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жога  сопровождается ощущением жжения по ходу пищевода при прохождении не только твердой пищи, но и жидкости. По мере развития болезни изжога становится мучительной и не поддается леч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чение острой пневмонии у береме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тяжелое в связи со снижением дыхательной поверхности легких, высоким стоянием диафрагмы, ограничивающей экскурсии легких, дополнительной нагрузкой на сердечно-сосудистую сис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ет быть и стертым, без высокой лихорадки, выраженных явлений интоксикации, патологических сдвигов в кр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трая пневмония не является противопоказанием для продолжения беременност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ложнения беременности при острой пневмо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ложнения беременности: в/у гибель плода, материнская смерт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строй пневмонии  следует отсрочить развитие родовой деятельности назначением бетта-миметиков и других средств, так как родовой акт опасен в связи с воздействием токсико-инфекционных факторов на нервную и сердечно-сосудистую систе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наличии дыхательной недостаточнос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. период изгнания укорачивают путем перинеотомии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чение пневмонии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невмонии производится в условиях стациона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боре антибиотика рекомендуется учитывать срок беременности и влияние препарата на пл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идентификации возбудителя проводят бактериологическое исследование мокроты. Определяют чувствительность микроорганизмов к антибиоти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/б: пенициллин, синтетические пенициллины, цефалоспорины, аминогликозиды, фторхинолоны, макроли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804384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Бронхиальная астма у беременны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Среди беременных бронхиальную астм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агностируют у 1-2% женщи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чение БА во время беременности: м.б.улучшение , без изменений или ухудш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Течение БА во время беременност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Улучшение течения Б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процессе беременности расширяется просвет бронхов и улучшается их проходимость, что наиболее выражено во второй половине беремен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величение концентрации свободного кортизола, а также циклического АМ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280" y="66600"/>
            <a:ext cx="779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худшение течения Б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ологическая гипервентиляц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концентрации прогестерона снижает чувствительность дыхательного центра к углекислоте, что вызывает повышение его актив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ремя беременности происходит угнетение клеточного иммунит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продукции аденозина, активация Т-супрессоров, которые хронизируют инфекционные заболева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цирование иммунных процессов антигенами пл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ьшение невосприимчивости беременных к вирусным заболе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поскольку бронхиальная астма является гетерогенным заболеванием, во время беременности она может протекать по-раз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лияние бронхиальной астмы на течение беременност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р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820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нний гестоз (у 37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дний гестоз (у 43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роза прерывания беременности (у 26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ждевременные 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оническая гипоксия плода и ЗВ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омалии родовой деятельности (у 19,4%), чаще быстрые и стремительные 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ий родовой травматизм плода(у 23,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утробное инфиц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инатальная смертность (42%о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онхиальная астма развивается у 5% детей в первый год жизни, у 58% она может появиться в последующие г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дение беременных с 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 наблюдения – обы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терапевтом 1раз в 2мес, консультация пульмоно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"простудное" заболевание является показанием для лечения  антибиотиками, физиотерапевтическими процедурами отхаркивающими средствами,  назначения бронхолитических препаратов или увеличения их д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нтгеноскопия органов грудной клетки (по показания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ктериологическое исследование мокр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бострении показана госпитализ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довая госпитализация - за две недели до р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илактика  хроническ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центарной недостато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И, ДМИ,КТГ плода, динамическое определение эстриола в крови матери с целью ранней диагностики страдания пл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онхиальна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стм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является противопоказанием для беременности, даже ее гормонозависнмая форма, так как поддается медикаментозно-гормоналыюй терап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Родоразрешение беременных с Б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ные бронхиальной астмой рожают обычн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vias natur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при доношенной беременности, так как приступы удушья в родах не трудно предотврат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иодах родов необходим тщательный контроль (КТГ) за состоянием плода, при ухудшении его состояния накладывают акушерские щипц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яжелая дыхательная и легочно-сердечная недостаточнос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ужа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нием для оперативного родоразрешения путем кесарева сечения. У 6,5% больных во время операции развивается бронхоспазм. Седативные препараты во время операции применяются только в исключительных случаях, т. к. они угнетают дыхательный центр и тормозят кашлевой рефлек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чение БА у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лече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ронхиальной астмы у беременных следует иметь в виду, что все используемые для этой цели препараты проходят через плаценту и могут причинить вред пл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астма течет благополучно, не нужно вообще прибегать к лекарственной терапии. При легком обострении заболевания можно ограничиться  горчичниками, банками, ингаляциями физиологического раст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отропное лечение бронхиальной астмы - десенсибилизация сывороткой к найденным аллергенам - проводится в течение ряда лет и во время беременности практического значения не име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зисное лечение бронхиальной астмы включает бронхорасширяющие средства (симпатомиметики, ксантиновые производные) и противовоспалительные: интал и глюкокортико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лекарства абсолютно противопоказаны больным бронхиальной астмой: а-адреномиметики, пилокарпин, р-адреноблокаторы, морфины (подавляют дыхательный центр), препараты раувольфии (вызывают вазомоторный ринит). Транквилизаторы, седативные препараты применяют только в исключительных случаях, т. к. они тормозят кашлевой рефлекс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торая стад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пустя 1-2 нед. от начала болезни)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желтушн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астает слаб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иливаются изжога, тошнота и рвота (чаще кровава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жение за груд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и в живо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хорад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астают симптомы печеночной недостаточ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строе уменьшение пече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ронхоэктатическая болезнь у беременны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онхоэктатическая болезнь не является противопоказанием для беремен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ния к прерыванию беремен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острение заболевания в первые 3 м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ыхательная недостаточность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ст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егочно-сердечная недостаточност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лияние бронхоэктатической болезни на  берем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ременность не способствует обострению бронхоэктатической боле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больных пневмосклерозом, эмфиземой легких может усилиться дыхательная недостато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благоприятное изменение погодных условий, особенно осенью и зимой, простудные заболевания вызывают обострение бронхоэктатической болезни независимо от срока берем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ПН: гипоксия пл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ГСЗ (наличие очага хронической инфекци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едение беременных с бронхоэктатической болез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 наблюдения – обы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терапевтом 1раз в 2мес, консультация пульмоно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нтгеноскопия органов грудной клетки (по показания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ктериологическое исследование мокр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бострении показана госпитализ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довая госпитализация - за две недели до р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И, ДМИ,КТГ плода, динамическое определение эстриола в крови матери с целью ранней диагностики страдания пл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сложнениях беременности  - госпитализация в гинекологический или акушерский стацион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оразрешение беременных с бронхоэктатической болез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ы рекомендуется вести через естественные родовые пу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больных с легочно-сердечной недостаточностью потуги должны быть выключены с помощью акушерских щипц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есарево сечение в условиях хронически инфицированного организма нежелатель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ечение беременных с бронхоэктатической болез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ным с бронхоэктатической болезнью рекомендуются высококалорийное питание с увеличенным количеством белка и витам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ение работой в теплом, хорошо проветриваемом помещении, прогулки на свежем воздух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обострении заболевания применяется лечение антибиот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колько раз в день следует принимать положение, при котором наиболее свободно отходит мокрота. Если мокрота отделяется с трудом, назначают отхаркивающие сред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еративное лечение - удаление легкого или его части - во время беременности применяется редко, но и эту возможность следует иметь в виду, если процесс локализов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000" y="836640"/>
            <a:ext cx="82594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ff"/>
                </a:solidFill>
                <a:latin typeface="Arial"/>
              </a:rPr>
              <a:t>Болезни печени, легких и почек при берем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4360" y="4221000"/>
            <a:ext cx="827064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болевание почек у береме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иелонефрит у беременны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6920" y="227664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рый пиелонефрит составляет 14% болезней почек в популя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елонефрит диагностируется у   12,2% беременных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всех экстрагенитальных заболеваний у беременных чаще всего (в 6 — 10% случаев) встречается пиелонефри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чем в 50% случаев это заболевание наблюдается у беременных, в 35% —у родильниц и в 15 % — у рожени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иология пиелонефр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фического возбудителя пиелонефр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будителями пиелонефрита беременных могут быть кишечная и синегнойная палочки, протей, клебсиелла, реже — эптерококки, стрептококки, стафилококки, вирусы, грибы, простейшие (трихомонады). Заболевание часто вызывается различными микробными ассоциац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тогенез пиелонефрита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8955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возникновения и развития пиелонефрита беременных, кроме наличия ипфекционного агента в организме, необходимо нарушение уродинамики верхних мочевыводящих путей (нарушение пассажа моч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ю заболевания может способствов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личие препятствия оттоку мочи (опухоль, камни, рубцовые изменения в мочеточниках, пороки развития почек и мочеточников). Определенное значение в развитии пиелонефрита имеют условия, способствующие усиленному сдавлению мочеточников беременной маткой: крупный плод, узкий таз, многоводие, многоплод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зменения гормонального баланса в организме. Высокий уровень прогестерона усиливает активность бета-рецепторов, вызывая гипотонию и дискенезию. Высокий уровень эстрогенов, снижая альфа-рецепторную зависимость , приводит к тем же наруш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атологические рефлюксы — пузырно-мочеточниковый, мотеточнико-лоханочиый, лоханочно-почеч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6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0920" y="476280"/>
            <a:ext cx="834372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риместре беременности примерно у 60% женщин создаются условия для возникновения патологических рефлюксов в связи с нарушением нервно-мышечного тонуса мочеточникового уст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е оттока мочи приводит к повышению внутрилоханочного давления. В результате лоханочно-почечных рефлюксов происходит разрыв свода чашечек и инфицированная моча инфильтрирует интерстициальну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кань п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енозной системе микробы проникают в общий кровоток, а обратно в почку возвращаются по артериальной системе и вызывают в ней воспалительный процесс. Эти изменения сопровождаются острым нарушени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вообращения в почке и  гипоксией ее, что, в свою очередь, поддерживает воспалительный процес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-9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етья стад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через 1-2 нед. после возникновения желтух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яжелая  печеночная и почечная недостаточ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ченочная недостаточность не сопровождается энцефалопати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олжительность заболевания находится в пределах от нескольких дней до 7-8 не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6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0920" y="549000"/>
            <a:ext cx="8064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ледствие тесной нейрогенной связи верхних отделов мочевыводящих путей с сосудами почек возникшие уродинамические нарушения влекут за собой гемодинамические изменения в поч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тонуса почечных вен приводит к одновременному спазму артерий, что приводит к гипоксии и еще сильнее усугубляет расстройства уродинам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ходящему распространению инфекеции способствует несостоятельность сфинктера уретры в связи с большой нагрузкой на него в конце берем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ют значение и особенности женского мочеиспускательного канала (он короткий и имеет почти прямое напра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елонефрит чаще развивается на фоне снижения местн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щей им­мунологической защиты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6198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чение пиелонефрита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8270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стрение пиелонефрита - 1/3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триместре у 9,6%, во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у 78,3%, в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у 43%, после родов – у 19,2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ме серозного часто возникает гнойный пиелонефрит  (диффузно-гнойный - недеструктивный и очагово-гнойный - деструктивный).  Деструктивный (апостематозный, карбункул и абцесс почки) диагностируется у 3-5% береме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сепси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оединение гипертенз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П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560" y="213840"/>
            <a:ext cx="86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ия беременности при пиелонефр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3437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ынашивание беременности (выкидыш – 6%, преждевременные роды – 25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оединение тяжелых форм гестоза (40-80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У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 перинатальная смертность, особенно при гипертен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олевания мочевой системы матери являются тератогенным фактором для мочевой системы плода. Заболевания почек у плодов: гидронефроз – 2,8%, пиелонефрит – у 3,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214200"/>
            <a:ext cx="8548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епени риска для беременных с пиелонефрито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415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еосложненный пиелонефрит, возникший во время берем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хронический пиелонефрит, существовавший до берем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хр.пиелонефрит с гипертензией или азотемией, пиелонефрит единственной п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ота осложнений в зависимости от степени риска: гестоз у 12,5% - 25% - 50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беременных 3ст риска беременность противопоказа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дение родов у беременных с пиелонефри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70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ый пиелонефрит не является показанием к прерыванию берем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едение родов рекомендуется применение спазмолитиков, анальгетиков, а/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явлении острой окклюзии мочеточника проводится катетеризация мочеточника и роды заканчиваются через естественные родовые пу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родов продолжают а/б или уросеп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ивное родоразрешение проводится по акушерским показаниям с интраоперационной профилактикой инфекции (в/в а/б сразу после извлечения плод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13840"/>
            <a:ext cx="83325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ение острого пиелонефрита у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270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ибиотики. 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иместре – пенициллин и полусинтетические пенициллины. С осторожностью амоксиклав (ингибитор бета-лактамазы).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иместрах можно использовать цефалоспорины, аминогликозиды, фторхинолоны, карбопин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септики: нитроксолины, препараты налидиксиновой  кислоты (неграм, невиграмон), нитрафураны, сульфаниламиды (могут вызвать ядерную желтуху у новорожденных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9640" y="620280"/>
            <a:ext cx="8415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становление пассажа мочи с целью восстановления оттока  м.б. использован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тетеризация мочеточ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еннее дренирование с помощью самоудерживающегося катетера-стен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резкожная пункционная нефростом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ая операция (декапсуляция почки, санация очагов гнойной деструкции с нефростомией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тетеризация, стенирование мочеточников и чрезкожная нефростомия допустима только в случае, когда отсутствуют клинико-лабораторные признаки гнойно-деструктивного пиелонефри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енажное поло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-78480"/>
            <a:ext cx="8548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4920" y="475920"/>
            <a:ext cx="8559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зинтоксикационные средства (обильное питье, инфузия физ.раствора, гемодез, р-р глюкозы и др). Объем – 2,5-3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змаферез, УФ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сенсибилизирующая терапия, спазмоли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муномодулирующая терап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ивогрибковые препараты и энтеросорб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нтервалах между а/б терапией показаны растительные уросептики: толокнянка, шалфей, шиповник, хвощ, ромашка. Канефрон, фитолиз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отерапевтические методы: в стадии ремиссии - дециметровые волны, УВЧ, Амплипульс (синусоидальные модулированные токи). В острой стадии – ультразвук на обл. по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терием излеченности являются отсутствие клинических симптомов и отсутствие патологических изменений мочи при трехкратном  исследо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8475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дение беременных с пиелонефритом в женской консуль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нщины с заболевании почек нуждаются в диспансерном наблю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беременности наблюдаются совместно с терапевтом, при необходимости уролог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ительные методы обследования: ОАМ еженедельно, пробы Нечипоренко, посев мочи, УЗИ поч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намическая оценка состояния фетоплацентарного комплекса (УЗИ, ДМИ. КТГ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ние имеющихся очагов инфекции : кариозные зубы, синуситы, тонзиллиты, колтпи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мбулаторно рекомендуется: колено-локтевое положение по 5-8мин 3-4 раза в день, растительные уросептики в течение всей берем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питализация при обострении или появлении осложнений берем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1280" y="213840"/>
            <a:ext cx="8332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омерулонефрит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омерулонефритом болеют 0,1-0,2% береме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тя проблема сочетания беременности и гломерулонефрита не определена, очевидно, что при определенных формах этого заболевания прогноз можно считать благоприятным, и беременность допустима, в то время как при других формах беременность представляет опасность для женщины и пл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абораторные критерии ОЖГ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емия, лейкоцитоз до 20-30х109; лимфоп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ая СОЭ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протеинемия, гипоальбуминемия, малая активность трансаминаз, щелочной фосфатазы, некорригируемая гипогликемия, гипepбилирyбинeм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омбоцитопения, гипофибриногенемия, снижение протромбинового индекса, гипокоагуляция с торможением фибринолиза, дефицит прокоагулянтов и высокая антикоагуляционная акти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ный для острого жирового гепатоза ДВС-синдром  развивается после внутриутробной гибели плода. Он проявляется маточными или желудочно-кишечными кровотечениями с нарушением свертывающей системы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213840"/>
            <a:ext cx="84042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обенности течения гломерулонефрита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рый ГН встречается во время беременности крайне ред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чение хронического ГН при берем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дко наступает обост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худшение течения заболевания во время беременности или после ро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5280" y="214200"/>
            <a:ext cx="81882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ия беременности при гломерулонефр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23640" y="2017440"/>
            <a:ext cx="86310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ота осложнений находится в прямой зависимости от наличия гипертензии (при гипертензии частота всех осложнений беременности в 10 раз выш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стоз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черепные кровоизлия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ждевременные 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Р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Р, гипоксия пл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инатальная и материнская смерт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17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деляю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степе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риска, определяющие частоту неблагополучного исхода беременност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ов для матери и пл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пень риска - минимальная. Латентная форма Г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ложнения беременности возникают не более, чем у 20% женщи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менность редко ухудшает течение заболевания, менее, чем у 20% бо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5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41536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II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ень риска - выраженная. Нефротическая форма Г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ложнения беременности (от 20 до 50 %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стоз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произвольный абор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ждевременные род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Р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ена перинатальная смертность (до 200%о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чение заболевания может ухудшиться во время беременности или после родов более, чем у 20% бо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71280" y="-1850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640" y="549000"/>
            <a:ext cx="8415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епень риска - максимальная. Гипертоническая и смешанная формы ГН, азотемия при любой форме, острый ГН или обострение хроническ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ложнения беременности (более 50%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ая перинатальная смертность  (более 200%о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менность представляет опасность для здоровья и жизни женщ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58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дение беременных с гломерулонефри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775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12 нед. беременности госпитализация в стационар для уточнения формы заболевания и решения вопроса о сохранении берем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ные, у которых установлена латентная форма ГН, могут в дальнейшем наблюдаться в женской консультации. При обострении  ГН или появлении осложнений беременности необходима экстренная госпитализация.  Дородовая госпитализация необходима за 2 нед до 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ные нефротической формой гломерулонефрита должны быть госпитализированы столько раз и находиться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ционар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ько времени, сколько требует их состояние (иногда несколько месяцев, вплоть до родов). Дородовая госпитализация в 36-37н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больные гипертонической и смешанной формами заболевания отказываются от прерывания беременности, на них распространяется тактика, рекомендуемая при нефротической фор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920" y="-196200"/>
            <a:ext cx="7793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улист -2 раза в месяц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дополнительных исследований для беременных с ГН: ОАМ еженедельно, АМ по Зимницкому, Нечипоренко, проба Реберга, бак.посев мочи; б/х анализ крови – белок, мочевина, ост.азот, креатинин, анти – О стрептолиз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Г, УЗИ почек, пункционная биопсия почек(крайне редко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намика оценки состояния плода (УЗИ, ДМИ, КТГ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нация хронических очагов инфе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000" y="214200"/>
            <a:ext cx="8475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оразрешение беременных с гломерулонефри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866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латентной форме гломерулонефрита женщины могут рожать своевременно и не нуждаются в каком-либо специальном акушерском пособ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больных нефротической, смешанной и гипертонической формами болезни показано досрочное возбуждение родовой деятельности, особенно если контроль за состоянием плода, начинает указывать на нарушение функции фетоплацентарного комплек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ы ведутся с тщательным обезболиванием, использованием гипотензивных препаратов, с ранней амниотом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тором периоде родов при высоком АД возможно использование акушерских щипц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есарево сечение применяется  по акушерским показ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1280" y="213840"/>
            <a:ext cx="83325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ение гломерулонефрита у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тогенетическая терапия ГН включает в себ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методы, преимущественное действие которых определяется иммунной депрессией(глюкокортикоиды, плазмаферез, цитостатики, антилимфоцитарная сыворотка, дренаж лимфатического прото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средства преимущественно противовоспалительного воздействия (аспирин, индометацин, бруфе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прямые и непрямые антикоагулян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аминохинол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при беременности использовать только аспирин, гепарин, допустимы глюкокортикои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легкой латентной формой ГН беременные не нуждаются в леч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других формах используют симптоматическую терап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чение беременных с ОЖГ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188800"/>
            <a:ext cx="822960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ораз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нсивной предоперационной подготовки, включающая плазмаферез и трансфузию свежезамороженной плаз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4:51:30Z</dcterms:created>
  <dc:creator>Iggy</dc:creator>
  <dc:description/>
  <dc:language>en-US</dc:language>
  <cp:lastModifiedBy>Iggy</cp:lastModifiedBy>
  <dcterms:modified xsi:type="dcterms:W3CDTF">2007-02-13T18:09:32Z</dcterms:modified>
  <cp:revision>130</cp:revision>
  <dc:subject/>
  <dc:title>Болезни печени, легких и почек при беременности </dc:title>
</cp:coreProperties>
</file>