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78CF-4AA4-4403-B4D1-4DDBD8981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8D96-127C-497D-8908-BC427599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11E2-6F0B-41D5-8F13-8F77DF004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F73C-DA7D-44F7-B887-D8375EDC4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AFB6-4070-4EBA-8BCA-66987C19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0022-0D90-4664-99F6-A9C259AC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C35C5-1B75-4869-9122-E5426B06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DF418-6D08-461B-ACF6-383A1D52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42F5-6109-4681-B91A-35A0524E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5C5A-9809-4BB0-AAAF-83473199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4648-9BCF-4B45-BACE-8580D69E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CAD6-8BE5-4B40-A6BB-1F8F1CB0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B392-FB65-4C00-9193-C3B321D9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5136E-7CF1-45C3-8567-F04D215A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8ACE-FCDE-4B57-A0DC-91C2E1F2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A13D-12F5-42B8-BD28-FDF88A42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E23D-42E2-434A-B3D6-935976AE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6109-8D4D-428D-ABFD-85B798FF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A234-90A2-42C9-A73B-760F09D3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DFF8-3BF4-4A96-85B9-38135CEC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E799-D644-42EF-B5C1-586F9737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9A10-07B7-4A8A-9E15-441D886C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9AC5-E208-4320-BEAD-77734098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39B7-EF05-4ABB-9191-A688B25A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C367-C29C-470F-82CA-0F1B1D1BE2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6607-A9E7-4DB9-BBD1-33B79F121B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362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Адаптационные изменения при физиологической беременно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Частота сердечных сокращений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 время беременности наблюдается физиологическая тахикард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СС достигает максимума в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риместре беременности и составляет 80-95уд/м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9328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Минутный объем сердца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бота сердца во время беременност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30-50%, достигая максимума на 25—30-й неделе беременности, затем постепенно уменьшается—и  ко времени родов возвращается к исходн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н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-45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%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max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26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30-й нед повышение МОС прекращается,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 38—40-й неделе он возвращается к исходному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бота левого желудочк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50%,достигая максимума в 29-32 нед,  затем работа левого желудочка постепенно снижается и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риместре превышает исходную величину (у небеременных)  на 10%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Нагрузка на сердце у беременных повышается не только в результате увеличения сердечного выброса, массы циркулирующей крови, общей массы, но и вследствие некоторого смещения сердца, повышения внутрибрюшного давления и более высокого стояния диафрагмы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Аускультация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истолический шум на верхушке у 50% беременных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истолический шум на  легочной артерии  у 10%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силение и  расщеплени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он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кцент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она на легочной артер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ЭКГ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лектрическая ось сердца отклоняется влево приблизительно на 15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зможен ряд изменений на ЭКГ: укорочение интервала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зменения комплекса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RS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виде увеличения амплитуды зубца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в отведениях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) и некоторого увеличения зубца 5 (в отведениях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); иногда бывают инверсия зубца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Т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в отведениях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)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 снижение сегмента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T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ти отклонения связывают с изменением позиции сердца и его поперечным поворотом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зультате поднятия диафрагм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гут нарушаться возбудимость и проводимость сер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ечной мышцы, в результате чего возникают аритми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Эхокардиография, рентгенограф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 время беременности увеличивается масса миокарда и размеры различных отделов сердца ( увеличиваются левое предсердие и левый желудочек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рентгенологическом исследовании выявляется изменение контура сердца, напоминающее митральную конфигураци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Гемодинамические изменения в родах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Во время схваток и особенно потуг АД повышается, АД снижается после разрыва плодного пузыря и рождения ребен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 большинства рожениц схватки сопровождаются тахикардией, у 25% наблюдается брадикардия, может возникать неполная и полная атриовентрикулярная блокада, экстрасистол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Эти отклонения объясняются повышением возбудимости проводящей системы сердца из-за высокого содержания в крови стероидных гормонов и увеличения выброса в кровь ацетилхолина во время сокращения матк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11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56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о время каждой схватки МОС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на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0—30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%,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дарный объе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0-500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л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бота левого желудочка в схватку в первом периоде родов нарастает на 37,8% по сравнению с концом беременности, во втором периоде родов — на 92,8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благополучного исхода родов большое значение имеет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ункциональное состояние правых отделов сердца, особенно правого_ предсердия, так как на него ложится наибольшая нагрузка— прием и перекачивание в желудочек крови из огромного резервуара, каким является матка в последовом период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800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л кров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Адаптация коллоидно-осмотического состояния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640" y="2204640"/>
            <a:ext cx="77724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смоляльность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 10мосм/кг воды к 20-22нед (вне беременности 291мосм/кг воды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держание натрия, калия, хлора, магния, кальция, фосфата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ллоидно-онкотическое давление (КОД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до 24 мм рт с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max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в 30-34 нед (у небеременных составляет – 26-28 мм рт ст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люкоза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до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2-3.8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моль/л (вне беременности 4,5-5,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чевина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до 4,3-4,0ммоль/л (вне беременности – 4,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иперлипидемия до 1,0г/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ле родов КОД снижается еще больше, что особенно опасно при терапии кристаллоидами вследствие развития интерстициального отека легки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Адаптация функции внешнего дыхания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требление кислорода к концу беременности увеличивается на 30-40%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противление дыхательных путей снижается в 1,5раз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следствие ограничения экскурсии диафрагмы во время беременности увеличивается частота дыхания ( на 10%)  и дыхательный объем (на 30-40%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итоге минутный объем дыхания повышается с 8,4л/мин до 11,1/мин. Увеличение дыхательного объема происходит за счет снижения резервного объема выхода. ЖЕЛ остается прежн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Нормой беременности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следует считать среднестатистические показатели гомеостаза и функциональных тестов, характерных для неосложненного течения беременности у практически здоровых женщин.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аждому триместру беременности характерны свои нормы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Адаптация гемостаза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Гемостаз зависит от состояния сосудистой стенки, тромбоцитов, факторов свертывания и фибринолиз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менения количества, функции и длительности жизни  тромбоцитов у беременных не выявлен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мечается повышенная активность факторов свертывания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I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акторов) с 3ме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ровень фибриногена повышаетс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ибринолитическая активность плазмы снижается во время беременности, становится наименьшей  в период родов  и возвращается  к исходному через 1 час после рождения плацент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цента содержит ингибиторы, блокирующие фибринолиз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Влияние беременности на функцию почек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 время беременности отмечается увеличение скорости почечного кровотока и гломерулярной фильтрации, осмотического клиренса с 500 до 700 мл/мин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Ежедневно фильтруется почти 100л жидкост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результате повышенной гломерулярной фильтрации и увеличенного объема плазмы уровень креатинина в сыворотке крови снижен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центрация мочевой кислоты в сыворотке снижен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 время беременности возможно появление ортостатической  протеинурии у 20% беременных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ругими физиологическими изменениями при беременности могут быть глюкозурия (до 140мг/сутки) и лактозури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 время беременности увеличивается емкость мочевых путей, создаются условия для застоя и инфицирования моч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-464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триместре беременности примерно у 60% женщин создаются условия для возникновения патологических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ефлюкс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 связи с нарушением нервно-мышечного тонуса мочеточникового усть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 время беременности имеется: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ипотония, гипокинезия, дискинез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мочевых путей вследствие изменения гормонального баланса в организм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Высокий уровень прогестерона усиливает активность бета-рецепторов, вызывая гипотонию и дискенезию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Высокий уровень эстрогенов, снижая альфа-рецепторную зависимость приводит к тем же нарушения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Вследствие тесной нейрогенной связи верхних отделов мочевыводящих путей с сосудами почек возникшие динамические нарушения влекут за собой гемодинамические изменения в почке. Снижение тонуса почечных вен приводит к одновременному спазму артерий, что приводит к гипоксии и еще сильнее усугубляет расстройства уродинами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Емкост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мочевого пузыря  и внутрипузырное давление не меняютс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Влияние беременности на функцию печени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Гистологически выявлено увеличение содержания гликогена и жировых отложений в клетках печен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ровень белка в сыворотке крови снижается, к родам он может достигать 60г/л имеется снижение уровня альбуминов и увеличения альфа-и-бетта – глобулинов. Результатом изменений в составе белков сыворотки является увеличение СО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оценке б/х состава плазмы наиболее характерно увеличение щелочной фостфатазы  (с 26 до 75 МЕ против 25 МЕ у небеременных), прямого билирубина (до 0,5-3,0 ммоль/л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Анатомия женских половых орган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Женская половая система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кладывается из парных яичников и маточных труб, матки, влагалища, наружных половых органов, а также молочных желёз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Функция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женской половой системы — 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репродуктивная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Яичник — герминативна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овогенез, овуляция) и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ндокринна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синтез и секреция эстрогенов и прогестерона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аточная труба — транспортна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продвижение овулировавшей яйцеклетки в полость матки, оплодотворение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атка — вынашивание плод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анал шейки матк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лагалище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одовые пу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олочная железа — вскармливание ребён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Овариально менструальный цикл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2640" y="1773000"/>
            <a:ext cx="863136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вариальный цикл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продолжение овогенеза (фазы роста и созревания фолликула), овуляция, формирование жёлтого тела. Овариальный цикл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регулирую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ипофизарные гонадотропины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фолликулостимулирующий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ФСГ)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лютеинизируюший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ЛГ)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рмон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нструальный цикл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характерные изменения слизистой оболочки матки, имеющие целью возможность имплантации и без наступления последней заканчивающиеся отторжением части эндометрия (менструация). Все фазы менструального цикла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контролируют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рмоны яичника —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строгены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гестерон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ругие органы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истемы (маточные трубы, канал шейки матки, влагалище, молочные железы) также подвергаются изменениям в рамках овариального цикл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83325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Наружные половые органы: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лобок, большие и малые половые губы, клитор, преддверие влагалища и промежность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Лобок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ли лонный бугор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mons pubis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mons veneris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реугольная площадка нижней части передней брюшной стенки с хорошо развитой жировой клетчаткой и оволосением по женскому тип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ольшие половые губы  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labia majora pudendi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две кожные складки по боковым сторонам половой щели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ima pudendi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)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толще губ расположены венозные сплетения, жировая клетчатка и большие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(бартолиновы)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железы преддверия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glandulae vestibulares majores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glandulae vestibulares Bartholini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)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ереди большие половые губы соединены спайкой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mmisura labiorum anterior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)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зади на границе с промежностью большие половые губы сливаются, образуя заднюю спайку 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mmisura labiorum posterior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разведении губ задняя спайка напрягается, и становится видна тонкая поперечная складка — уздечка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enulum labiorum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зади от неё расположено углубление — ладьевидная ямк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ossa navicularis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Малые половые губы (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labia minora pudendi</a:t>
            </a: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)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едний край каждой малой половой губы расщепляется спереди на две ножки. Передние ножки обеих малых губ сливаются над клитором, образуя его крайнюю плоть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putium ditoridis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дние ножки соединяются под клитором, образуя уздечку клитора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renulum ditoridis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Адаптация сердечно-сосудистой системы при беременности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иперволемическая аутогемодилюц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величение сердечного выбро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вышение частоты сердечных сокраще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вышение венозного давл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ижение ОПС сосудо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литор </a:t>
            </a: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(с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lit</a:t>
            </a: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о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r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стоит из двух пещеристых тел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rpora cavernosa ditoridis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ращённых с помощью ножек с нисходящими ветвями лобковых костей. Сходясь у нижнего края лонного сочленения, ножки образуют тело клитора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rpus ditoridis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еющее округлую форму и заканчивающееся снаружи головкой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glans ditoridis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)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реддверие влагалища </a:t>
            </a: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vestibulum vaginae</a:t>
            </a: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)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2017440"/>
            <a:ext cx="84866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странство, ограниченное сверху клитором, снизу и сзади — задней спайкой больших половых губ, с боков — малыми половыми губами; дно преддверия влагалища образует девственная плева. С преддверием сообщаются влагалище, наружное отверстие мочеиспускательного канала и выводные протоки парауретральных (малых) и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бартолиновых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больших) желёз. Девственная плева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ymen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сположена на границе между преддверием влагалища и влагалище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ромежность </a:t>
            </a: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perineum</a:t>
            </a: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)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жно-мышечно-фасциальная пластинка, расположенная между задней спайкой больших половых губ и копчиком. Фасции и мышцы промежности составляют тазовое д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214200"/>
            <a:ext cx="8475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Внутренние половые органы: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влагалище, матка и придатки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лагалище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vagina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растяжимый фиброзно-мышечный орган длиной 7-9 см, начинающийся от входа во влагалище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roitus vaginae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оканчивающийся сводом влагалища. Стенка влагалища состоит из трёх оболочек (слизистая, мышечная, адвентициальная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03440" y="188640"/>
            <a:ext cx="84405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Влагалище.Слизистая оболочка: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многослойный плоский эпителий и собственный слой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пителий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ногослойный плоский эпителий изнутри кнаружи состоит из базальных, промежуточных и поверхностных клеток. Эпителий подвергается частичному ороговению (поверхностные клетки содержат гранулы кератогиалина). В пролиферативную фазу менструального цикла в эпителии накапливается значительное количество гликогена. Гликоген используется влагалищной микрофлорой, а образующаяся при этом молочная кислота препятствует размножению патогенных микроорганизмов.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лагалищный мазок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зависимости от фазы менструального цикла в мазке преобладают разные эпителиальные клетки: базальные, парабазальные, промежуточные, ладьевидные, поверхностные, ороговевающ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3325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Влагалище.Слизистая оболочка: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многослойный плоский эпителий и собственный слой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Собственный слой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волокнистой соединительной ткани собственного слоя присутствуют лимфоциты, зернистые лейкоциты, иногда обнаруживаются лимфатические фолликул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83325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Влагалище.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Строение стенки влагалища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ышечная оболочка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стоит из двух слоев ГМК. Внутренний (тонкий) слой содержит ГМК с циркулярной ориентацией. Наружный (толстый) слой образован продольными пучками ГМК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Адвентициальная оболочка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разована волокнистой соединительной тканью и соединяет влагалище с окружающими структур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Матка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атк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представляет собой полый гладкомышечный орган грушевидной формы, уплощенный в переднее-заднем направлен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ина матки у нерожавших – 7-8см, у рожавших – 8-9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Ширина – 4-5см в области дна, передне-задний размер – 2,5см, толщина мышечной стенки – 1,2с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сса матки – от 30 до 100г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87487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5072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4920" y="836640"/>
            <a:ext cx="8559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атка состоит из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тела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шейк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между которыми выделяется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перешеек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В норме тело матки и шейка находятся под углом открытым кпереди. В теле выделяют дно, переднюю, заднюю стенки, правое и левое ребра. Шейка матки обычно длиной 3 см имеет коническую форму и нерожавших и цилиндрическую – у рожавших женщин. Шейка делится на надвлагалищную и влагалищную час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лость матки имеет форму треугольной щели, длина которой – 7-8с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Физиологическая гиперволемия беременных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ЦК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25-48%  с 12нед и  до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0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6не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Объем плазм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50% 3900-4000мл (26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не беременности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Объем эритроцит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18% (при приеме железа – на 32%) и достигает 1650мл (у небеременной 1400м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щий объем внеклеточной жидкост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20%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6,5 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Определенную роль в этой задержке жидкости играет альдостерон, секреция которого возрастает с 12-й нед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ближается к первоначальному уровню спустя 2 нед после род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Строение стенки мат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енка матки представлена 3 слоями: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внутрен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эндометрий (однослойный цилиндрический эпителий, преврвщающийся во время беременности в децидуальную оболочку),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сред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миометрий, который представлен сплетением обильно кровоснабженных пучков гладкой мускулатуры,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наружны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серозный (периметрий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Строение стенки матки:миометрий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миометрии различают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наружный сло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продольное направление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), сред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с циркуляторным и косым направлением волокон), и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внутренний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с продольным расположением волокон. Продольные пучки гладко-мышечных клеток наиболее выражены в дне и теле матки. Поперечно-расположенные пучки в дне матки представлены тонким слоем, толщина их значительно увеличивается в нижнем сегменте и шейке, области наружного и внутреннего зе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33256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Маточные трубы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(10-12см):   интерстициальная, перешеечная,   ампулярная, фимбриальная части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>
            <a:lum contrast="6000"/>
          </a:blip>
          <a:srcRect l="-953" t="-5" r="5743" b="0"/>
          <a:stretch/>
        </p:blipFill>
        <p:spPr>
          <a:xfrm>
            <a:off x="2050920" y="1773360"/>
            <a:ext cx="6408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Маточные трубы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: строени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енка маточной трубы делится на 4 слоя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ерозную оболочку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постоянную подсерозную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ышечную (состоящую из наружного и внутреннего продольного пучков и среднего циркулярного)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лизистую, образующую в просвете трубы продольно расположенные склад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619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Яичник (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3х2х1,5см )– парный орган. Располагается в углублении париетальной брюшины, называемом яичниковой ямкой. Форма яичника овоидная, он сплющен спереди назад.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9280" y="2017440"/>
            <a:ext cx="460872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редством </a:t>
            </a: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собственных связок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яичники прикрепляются к углам матки. С помощью </a:t>
            </a:r>
            <a:r>
              <a:rPr b="0" i="1" lang="ru-RU" sz="2000" spc="-1" strike="noStrike">
                <a:solidFill>
                  <a:srgbClr val="ff0000"/>
                </a:solidFill>
                <a:latin typeface="Tahoma"/>
              </a:rPr>
              <a:t>подвешивающих связок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они фиксируются к боковым стенкам таза. Яичник покрыт зародышевым эпителием, и лишь небольшая его часть располагается между листками </a:t>
            </a:r>
            <a:r>
              <a:rPr b="0" i="1" lang="ru-RU" sz="2000" spc="-1" strike="noStrike">
                <a:solidFill>
                  <a:srgbClr val="ff0000"/>
                </a:solidFill>
                <a:latin typeface="Tahoma"/>
              </a:rPr>
              <a:t>широкой маточной связки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Дупликатура брюшины, отходящая от заднего листка широкой связки, образует короткую </a:t>
            </a:r>
            <a:r>
              <a:rPr b="0" i="1" lang="ru-RU" sz="2000" spc="-1" strike="noStrike">
                <a:solidFill>
                  <a:srgbClr val="ff0000"/>
                </a:solidFill>
                <a:latin typeface="Tahoma"/>
              </a:rPr>
              <a:t>яичниковую брыжейку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Этот участок яичника называется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его воротам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>
            <a:lum contrast="6000"/>
          </a:blip>
          <a:srcRect l="-953" t="-5" r="5743" b="0"/>
          <a:stretch/>
        </p:blipFill>
        <p:spPr>
          <a:xfrm>
            <a:off x="4643280" y="1628640"/>
            <a:ext cx="4670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Физиологическое положение матки, труб и яичников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обеспечивается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подвешивающим, закрепляющим и поддерживающим аппаратами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К подвешивающему аппарату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тносятс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бственные связки яичнико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широкие связки матк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вешивающие связки яичник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руглые  маточные связ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-5148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8491320" cy="55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Широкие маточные связк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едставляют собой фронтально расположенную дупликатуру брюшины, соединяющуюся с передней и задней поверхностью матки и направляющуюся к боковым стенкам таза, где она переходит в париетальную брюшину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ь широкой маточной связки является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брыжейкой маточной труб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жду листками широкой связки заложен слой рыхлой клетчатки, разделенный фасциальной пластиной на два отдела: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верх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и ниж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 развитой артериальной и венозной сетью, а также с проходящим здесь мочеточником. Эта часть широкой связки носит название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главной, или кардинальной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5640" y="-2973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765000"/>
            <a:ext cx="83487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д передним листком широкой связки от передней поверхности матки по направлению к внутреннему отверстию пахового канала - проходит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круглая маточная связк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Длина ее в среднем 10— 15 см, толщина 3—5 см. Круглые связки проходят через внутренние отверстия паховых каналов, постепенно истончаются и, выходя из пахового канала, полностью разветвляются в подкожной жировой клетчатке. В круглых связках проходит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артерия круглой связки матк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отходящая от нижней надчревной артери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7280" y="-154440"/>
            <a:ext cx="7793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692280"/>
            <a:ext cx="8559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Собственная связк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яичник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представляет собой короткий парный, но достаточно плотный фиброзно-гладкомышечный тяж, соединяющий нижний (маточный) конец яичника с матко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Подвешивающаяся связка яичник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— также парное образование, начинающееся от латеральной части широкой маточной связки в области трубного конца яичника и трубы и переходящее в брюшину боковой стенки таза в области крестцово-позвоночного сочленения, в ней проходят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яичниковые артерия и вен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50920" y="0"/>
            <a:ext cx="84596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Олигоцитемическая гиповолемия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50752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изиологическая анемия беременны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ижение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b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о 105-110г/л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32-34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д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ижени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0,32-0,34л/л   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32-34нед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ижение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язкости крови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26-28нед, к моменту родов вязкость крови достигает нормального уровня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-2991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4920" y="620280"/>
            <a:ext cx="8559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К закрепляющему аппарату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относятс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рдинальны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рестцово-маточ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узырно-маточны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узырно-лобковые связк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50720" y="-37008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4866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Кардинальные связк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составляют нижнюю  часть «зоны уплотнения»широкой маточной связки, являющейся наиболее мощной в системе закрепляющего аппарат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Крестцово-маточные связк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образованы преимущественно гладкомышечными и фиброзными волокнами и составляют заднюю часть «зоны уплотнения». От задней поверхности шейки матки, дугообразно охватывая с боков прямую  кишку, они  направляются к париетальному листку тазовой фасции на передней поверхности крестца. Верхняя часть связок приподнимает покрывающую их брюшину, образуя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прямокишечно-маточные складк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15640" y="-2991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000" y="620640"/>
            <a:ext cx="82803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К поддерживающему аппарату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относятся мускулатура тазового дна, представленная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диафрагмой таза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мочеполовой диафрагмой 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двух поперечно-полосатых мышц (седалищно-пещеристой и луковично-пещеристой)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Анатомически полость малого таза разделяется на 3 этажа: брюшинный, подбрюшинный и подкожный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2017440"/>
            <a:ext cx="855972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Первый этаж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условно ограничен сверху пограничной линией и снизу тазовой брюшиной. Здесь располагаются верхняя часть мочевого пузыря, большая часть матки, придатки, широкие маточные связки и верхний участок влагалищ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15640" y="-2271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000" y="765000"/>
            <a:ext cx="82803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рюшинный отдел таза является нижним отделом брюшной полости. Переходя с передней брюшной стенки на мочевой пузырь брюшина образует здесь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оперечную пузырную складк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далее брюшина переходит на переднюю поверхность матки, создавая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узырно-маточное углубл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месте перехода брюшины с матки на  прямую кишку брюшина формирует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рямокишечно-маточное углубл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две боковые складки, идущие в передне-заднем направлении к крестцу. Они носят название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рямокишечно-маточных складок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содержат пучки мышечно-фиброзных волокон, являющихся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кресцово-маточным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вязк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-227520"/>
            <a:ext cx="7793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4920" y="692280"/>
            <a:ext cx="8559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Второй этаж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ограничен тазовой брюшиной, а снизу листком тазовой фасции, покрывающим сверху мышцу, поднимающую задний проход. Здесь располагаются внебрюшинные отделы мочевого пузыря и прямой кишки, шейка матки , большая часть влагалища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-2991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9640" y="549000"/>
            <a:ext cx="841536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Третий этаж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ограничен сверху тазовой диафрагмой , а снизу – кожными покровами. Здесь находятся конечные отделы моче-половой системы и кишечной трубки. Сюда же относится седалищно-прямокишечная ямка, расположенная сбоку от промежностного отдела прямой кишк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932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Кровоснабжение.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46688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нутренние половые органы снабжаются за счет сосудов, отходящих от внутренней подвздошной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ртерии (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маточная артери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и от аорты (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яичниковая артери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>
            <a:lum contrast="6000"/>
          </a:blip>
          <a:srcRect l="0" t="119" r="2910" b="0"/>
          <a:stretch/>
        </p:blipFill>
        <p:spPr>
          <a:xfrm>
            <a:off x="4846680" y="1197000"/>
            <a:ext cx="42973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9328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Кровоснабжение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415360" cy="51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Яичниковая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артерия ответвляется от аорты ниже места отхождения почечной артерии, перекрещивается с тазовым отделом мочеточника, вступает в подвешивающую  связку яичника, подходит к воротам яичника и дает 2 ветви –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яичниковую и трубну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Кровоснабжение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631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Маточная артерия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ходит от внутренней подвздошной , подходит к боковой поверхности матки на уровне внутреннего зева, проходит вдоль ребра матки, отдавая мелкие горизонтальные ветви к матке ( дно, трубная, яичниковая ветви). От маточной отходит вниз влагалищная артер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 внутренней половой артерии отходят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ромежностная артер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задняя артерия половых губ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Продолжением  внутренней половой артерии явл.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артерия клитор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Артериальное давление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Д снижается во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риместре на 5-15мм рт ст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ma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28не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риместре  АД соответствует уровню, отмечаемому до беремен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Д в положении на спине соотвествует норме, а в положении – лежа на боку  ниже нормы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Венозный отток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559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личают три основных пути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венозного отток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т мат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ерх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в яичниковую вену, которая направляется в забрюшинное пространство и впадает в почечную вену слева, справа – в нижнюю полую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ены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реднего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дела образуют маточную вену, впадающую во внутреннюю подвздошную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иж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тдел – собирает венозную кровь от шейки матки и влагалища (влагалищно-маточное сплетение). Это сплетение , сливаясь с венами мочевого пузыря, образует мощное пузырно-влагалищное сплетени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000" y="214200"/>
            <a:ext cx="8259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Иннервация матки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559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атка снабжена нервными волокнами, отходящими от тазового сплетения, образованного нервными волокнами поясничного отдела симпатического ствола, нижнего подчревного сплетения и ветвями крестцового сплет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7584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Вегетативная иннервация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631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дренергическая иннерваци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медиатор — норадреналин) преобладает в продольных пучках среднего (сосудистого) слоя миометрия, а также вокруг сосудов миометрия. Различаю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ва типа адренорецепторов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мембране ГМК. альфа-адренорецепторы, ответственные за сокращение ГМК, располагаются преимущественно на мембранах продольно расположенных пучков; бетта-адренорецепторы, активация которых приводит к расслаблению ГМК, находятся на мембранах циркулярно расположенных пучков ГМ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Холинергическая иннерваци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медиатор — ацетилхолин) преобладает в циркулярно и спиралеобразно расположенных ГМК нижнего сегмента и шейки матки, в меньшей степени — в подсосудистом слое, прилегающем к эндометри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-1544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4920" y="692280"/>
            <a:ext cx="855972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лотность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льфа- адренорецепторов зависит от содержания эстрогенов и простагландинов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бетта-адренорецепторов — от концентрации прогестерон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субплацентарной зоне и внутреннем слое миометрия, непосредственно прилегающих к полости матки,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рог возбудимост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ше, чем в других слоях; поэтому мышцы внутреннего слоя сокращаются слабее. Это предохраняет плод от чрезмерного сдавления, предотвращает нарушение маточно-плацентарного кровотока и преждевременную отслойку плаценты от стенки мат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переменное возбуждение симпатических и парасимпатических волокон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зывает сокращение продольно расположенных мышечных пучков матки при одновременном активном расслаблении циркулярных и спиралеобразных, что приводит к постепенному раскрытию шейки матки и продвижению плода по родовому каналу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Общее периферическое сопротивление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С становится наиболее низким (снижается на 28,9%)  в 28- 32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д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последующие сроки беременности ОПС  повышается, но остается  на 10,4% ниже, чем у небеременных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чительное снижение ОПСС на 10,4% связывают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с образованием маточного круга кровообращения с низким периферическим сопротивлением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с сосудорасширяющим действием эстрогенов и прогестерон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Венозное давлени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вышение ЦВД в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риместре в среднем 8 см вд ст (4-12), у небеременных – 3,6 с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вление в венах верхних конечностей не изменяет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вление в венах нижних конечностей увеличивается  ( 7-10 см вд ст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Синдром сдавления  нижней полой вены(постуральный гипотонический синдром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7—14% случаев после 30—32 не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индром сдавления нижней полой вены или «гипотензивный синдром на спине»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овождается падением систолического давления на 25—30 мм рт. ст. и более. Через 2—3 мин появляются симптомы сердечно-сосудистой недостаточности, иногда с потерей созн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мощь: беременную необходимо немедленно перевести в вертикальное положение или повернуть на бок, либо сместить матку в сторон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тяжной синдром может привести к отслойке нормально прикрепленной плаценты, отеку легких во время кесарева сечения. Отек легких возникает вслед за извлечением плода, что объясняется быстрым увеличением венозного притока к сердцу после устранения сдавления нижней полой вен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09:00:49Z</dcterms:created>
  <dc:creator>Iggy</dc:creator>
  <dc:description/>
  <dc:language>en-US</dc:language>
  <cp:lastModifiedBy>Iggy</cp:lastModifiedBy>
  <dcterms:modified xsi:type="dcterms:W3CDTF">2007-01-24T16:54:15Z</dcterms:modified>
  <cp:revision>91</cp:revision>
  <dc:subject/>
  <dc:title>Адаптационные изменения при физиологической беременности</dc:title>
</cp:coreProperties>
</file>