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65F-C9A6-4640-896E-162777DC3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405-37EF-4FA2-B78B-CC90770E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A8E-8609-41ED-AADB-66347DC9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09A-5FA8-47DC-9D61-A2ECAF79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DC31-7E3A-4B1B-B089-2D25B11E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BE07-D085-4865-8574-F99C2BCB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737B-936E-4934-BE43-7BADFC19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4CB-22E2-4BA5-B0DF-7BCEDFB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8810F-F16C-40EC-B032-A3961AB7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C2E7-B591-4C5A-9EA8-E911F5AE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EC08-43DC-4BBF-933F-29BD44F4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853-9B81-4447-BC03-D5B2BB69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214F-3664-4407-A1BF-3542B54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6898-3AD5-4A07-9E41-4A550E40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7996-C381-49A3-89D4-A179FDFE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3B3F-23E2-4ECA-A643-91D11A01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37ED-D1D4-4313-BAFC-999910D9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84962-2F95-42AC-B624-02CC1A8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363E0-F4FD-44AF-8D30-B45EA7F9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08F1F-593D-4C7E-B198-13C50804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CD5A-683D-4FCD-8E12-CF947E15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A7966-06E1-4FAB-BA73-BFF972F2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947-95EE-4395-8FB2-CFE483A0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00CA-FC53-417A-9105-668D6E6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EB89-F31B-42C7-B53D-5C95A3C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6C28-8963-41A4-B5E3-EC415CF7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17B8-1BB4-4808-AF48-3958097D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2956-DB37-4B1B-917F-232DBF5C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ECD3-84BF-476D-9D99-A91FD1D50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AA341-382F-4543-A233-7714A504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D31-0473-429E-85F3-B87EAF18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1A0E-55FD-4A91-B25F-31B2EA8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989C-6DD9-4C07-86B7-ABC72D8A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4D6-637F-4B1E-A1D9-8F89C599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C90-0EB4-4054-AF15-2ADF21E4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1B0-7853-4FAC-81AD-1A534717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CF09-2ED4-467C-9A1F-E3A15365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A9BA-FF5D-48B1-9103-E4EA0D5827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831-B956-41DD-B9ED-004E20AE9E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1424160" y="0"/>
          <a:ext cx="6557760" cy="666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0"/>
                    <a:ext cx="6557760" cy="666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ЛИЧНОСТНЫЙ ПРОФИЛЬ БОЛЬНЫХ ЗАП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026720"/>
            <a:ext cx="8569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В преморбиде таким больным присущи называемые анальные черты характера в виде: точности, аккуратности, пунктуальности, чувства долга. Об эмоциональной бедности больных колитом писал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Fain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51) и </a:t>
            </a:r>
            <a:r>
              <a:rPr b="1" lang="en-US" sz="1600" spc="-1" strike="noStrike">
                <a:solidFill>
                  <a:srgbClr val="990099"/>
                </a:solidFill>
                <a:latin typeface="Arial"/>
              </a:rPr>
              <a:t>Jores</a:t>
            </a: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 (1981): «они не способны воспринимать и вербализовать эмоции и конфликты». Такие больные характеризуются как: нервозные, нетерпеливые, сверхчувствительные и легко ранимые люди, чья способность расслабиться и наслаждаться блокирована. Они склонны к поведению с элементами навязчивостей и ярко выраженным самоконтролем. Они стремятся к тесному общению с узким кругом людей, желая близости, признания и защищенности; с другой стороны, они хотели бы остаться независимым, поскольку очень тесная близость кажется им угрожающ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Такие больные опрятны, любят порядок, пунктуальны, свой гнев выражают весьма сдержанно. Для них характерны некоторые черты инфантильности, склонность к депрессиям, к подавлению своих агрессивных импульсов. Чрезмерно развито чувство обязательности. У них репутация человека дела. Александер полагает, что у таких личностей ключевым моментом является фрустрированная потребность своей зависимости. Больные чаще происходят из семей, в которых вообще мало говорят о чувствах. У них низкая самооценка, и они весьма чувствительны к собственным неудачам. Потеря отношений с ключевой фигурой переживается бессознательно больными как угроза собственному существов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ДИАР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775080"/>
            <a:ext cx="864072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Чаще возникает при внезапном испуге, напряженном ожидании чего-ли­бо и других ситуациях, вызывающих чувство острой тревоги и душевного дискомфорта. Учащение дефекации до 5-10 и более раз в сутки сопутствует жалобам на приступы сердцебиений в покое, боль в левой половине грудной клетки, головокружение, потливость, тошноту и другие соматиче­ские признаки психовегетативной дисфункции. Абдоминальные алгии и вегетативно-сосудистые нарушения нередко усиливаются после еды, усугубляя страх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Абдоминальные алгии и вегетативно-сосудистые нарушения нередко усиливаются после еды, усугубляя и без того уже почти нескрываемый страх приема пищи, и отличаются известной причудливостью и независимостью от рациона. У ряда больных с «легко ранимым кишечником» и гастроинтестинальными страхами повышен так называемый желудочно-кишечный рефлекс – императивный позыв к дефекации возникает после каждого приема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Хронические невротические поносы, длятся годами и не поддаются диетическому лечению и требуют психотропной терап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лабость, чувство постоянной усталости, похудание на 10-20 кг, раздражительность, парестезии, артралгии и миалгии, нарушения менструального цикла или развивающаяся импотенция, трофические расстройства (сухость кожи, ломкость ногтей и т. д.) и кожные высыпания, сосудистая дистония и всевозможные висцеро-вегетативные проявления, рассматриваемые как симптомы атипичного энтерита, абсолютно идентичны клинической картине соматизированной депр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2" dur="indefinite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индром раздраженной толстой киш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228320"/>
            <a:ext cx="7993080" cy="4057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дром впервые описал J. Da Costa в 1871 г. в рамках «мукозного энтерита». Термин «синдром раздраженной толстой кишки», предложил H. Bockus в 1929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пидемиология: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всего населения страдает симптомами СРТК в те или иные периоды жизни  (D.A. Drossman, 1994). СРТК - наиболее частая форма патологии в гастроэнтерологической практике: на его долю приходится до 11% от всех диагнозов, устанавливаемых гастроэнтерологами (J. Richter, 1989). В большинстве случаев СРТК развивается в позднем подростковом и раннем взрослом возрасте, причем у женщин примерно в 2 раза чаще, чем у мужч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линические проявления СРТК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810720"/>
            <a:ext cx="8136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арушения моторики кишечника – по типу запоров, диареи и смешанные варианты (перемежающиеся диарея и запор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Болевой синдром: абдоминалгии носят характер спастических болей, изолированных или эпизодически возникающих на фоне диффузных и стойких болевых ощущений в области живо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Отмечается преобладание невротических (тревожных) и аффективных (депрессивных) расстройств, протекающих с выраженными алгическими и вегетативными нарушениями (слабость, повышенная утомляемость, нервозность, головокружение, головные боли, тремор, боли в области спины, нарушения сна)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4. Преморбидные личностные особенности: ригидность, скрупулезность, утрированная склонностью к поряд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более тяжелых случаях возможно развитие социальной дезадаптацией вплоть до полной утраты работоспособности и инвалидизации пациента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89000"/>
            <a:ext cx="3743280" cy="216036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Психогенная дизур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 – проявляется в виде «настойчивой потребности мочиться» и сопровождается  вегетативно-сосудистыми симптомами: озноб, похолодание кистей и стоп или ощущение жара, бледность кожных покровов. Тревога и страх больных за свое состояние становятся объектом ипохондрической фиксации.В основе психогенного недержания мочи лежит снижение чувствительности мочевого пузыря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4653000"/>
            <a:ext cx="2736720" cy="1440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99"/>
                </a:solidFill>
                <a:uFillTx/>
                <a:latin typeface="Arial"/>
              </a:rPr>
              <a:t>Уретральная ипохондрия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- неприятные и тягостные ощущения в области уретры и половых органах, сочетающиеся с различными психофеномен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292720" y="3645000"/>
            <a:ext cx="3672000" cy="302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Нефроптоз -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тяжесть и ноющая боль в поясничной области, в  животе, нарастающая в вертикальном положении и при движении, ощущение перемещения или перекатывания в брюшной полости какого-то тяжелого предмета, сочетание со всевозможными диспепсическими расстройствами (анорексией, изжогой, отрыжкой, чувством давления в эпигастрии, упорным метеоризмом, запорами и т. д.), головной болью, нарушениями сна и нередко неинфекционным субфебрилитетом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796000" y="333360"/>
            <a:ext cx="3132000" cy="2664000"/>
          </a:xfrm>
          <a:prstGeom prst="roundRect">
            <a:avLst>
              <a:gd name="adj" fmla="val 50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333399"/>
                </a:solidFill>
                <a:uFillTx/>
                <a:latin typeface="Arial"/>
              </a:rPr>
              <a:t>Цисталгия</a:t>
            </a:r>
            <a:r>
              <a:rPr b="1" lang="ru-RU" sz="1000" spc="-1" strike="noStrike">
                <a:solidFill>
                  <a:srgbClr val="333399"/>
                </a:solidFill>
                <a:latin typeface="Arial"/>
              </a:rPr>
              <a:t> - повышенная чувствительность при пальпации мочевого пузыря, болезненные ощущения в этой области и поллакиурия с императивными позывами к мочеиспусканию, возникающими даже при незначительном заполнении мочевого пузыря. Существует прямая зависимость цисталгии от психической травмы и особенности психического статуса больных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11280" y="2637000"/>
            <a:ext cx="2808360" cy="1873080"/>
          </a:xfrm>
          <a:prstGeom prst="roundRect">
            <a:avLst>
              <a:gd name="adj" fmla="val 50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РОЛОГИЧЕСКИЕ МАСКИ ДЕПР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979640" y="4437000"/>
            <a:ext cx="936720" cy="216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2349360"/>
            <a:ext cx="1295640" cy="43200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003640" y="2565000"/>
            <a:ext cx="1081080" cy="35892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4437000"/>
            <a:ext cx="720720" cy="360360"/>
          </a:xfrm>
          <a:prstGeom prst="line">
            <a:avLst/>
          </a:prstGeom>
          <a:ln w="1908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Профиль личности больных с урологическими расстрой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931680"/>
            <a:ext cx="8642160" cy="566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Часто не придают серьезного значения физическим потребностям и праву на их удовлетворение. Отсутствие времени, чтобы сходить в туалет: прежде всего - работа. Сознательно ограничивается потребление жидкости, чтобы не было необходимости часто «исчезать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Стеснение: невротические жалобы на невозможность мочеиспускания в присутствии посторонних сочетаются с частым и болезненным мочеиспускание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Брезгливость: опасения перед грязью в чужих туалет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Недостаточная открытость-честность: не хочется, чтобы посторонние заподозрили слабость мочевого пузыр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Вежливость: нежелание помешать други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В профессиональной сфере: активность, желание чего-то добиться, иметь успе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. В сфере контактов чрезвычайно сдержанны, в отличие от других людей, они очень скованны и неуверен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 Преобладает лабильное, преимущественно тревожное настроение с опасениями неуспеха и склонностью к депрессия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. Воспитание и установки: родители таких пациентов очень высоко ценили чистоплотность и достижения. Функция выделения принадлежит половым органам и, таким образом, вследствие строгого, враждебного отношения к телу и морализирующего воспитания, мочеиспускание бессознательно связывалось с чем-то запретным и переживалось противоречиво. Тот, у кого слабый мочевой пузырь, нередко считается слабым или незрелым челове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98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Анкета Кельгольц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68360" y="565200"/>
            <a:ext cx="835164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Доставляет ли Вам жизнь чувство удовлетвор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Сохранился ли интерес к привычным занятиям и увле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начинать новое дело?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несвойственная Вам утомляемость и слабость и как она меняется в течение д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о тревоги, напряженности и беспричинного беспокойств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стало ли трудно Вам принимать реш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нарушился ли со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беспокоит ли боль или чувство стеснения в груд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изменился ли аппетит и Ваш вес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т ли нарушений в половой сфере (менструальном цикле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ась ли вялость, пассивность, несвойственное Вам желание сидеть без де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lnSpc>
                <a:spcPct val="120000"/>
              </a:lnSpc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Не появилось ли чувства бесполез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77840" algn="just"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11280" y="485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93800" y="291960"/>
            <a:ext cx="741528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ТЕМА ЛЕКЦИИ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СИХОФЕНОМЕНОЛОГ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ВНЫХ СОСТОЯ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Депре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51280" y="1989000"/>
            <a:ext cx="16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43960"/>
            <a:ext cx="85690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от лат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depressio </a:t>
            </a: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- подавление, угнетение) – аффективное состояние, характеризующееся сниженным настроением, идеаторной и моторной заторможенностью (триада Крепелина), а также соматовегетативными дисфункц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деаторный компонент триады Крепелина: изменение скорости течения ассоциаций - ассоциации замедлены и структурно упрощены; больные жалуются на тупость, безмыслие, потерю памяти; речь становится лаконичной, элементарной с длительными паузами. Речь замедленная, лишена эмоциональных оттен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оторно - волевой компонент триады Креп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1) Гипобулия - ослабление побуждений к деятельности и общее снижение активности. Снижение влечений: пищевого и полового (импотенция, фригидность, аноргазмия). Утрате аппетита сопутствует отвращение к виду, запаху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2) Депрессивное невербальное поведение - поза больных в положении стоя с фиксацией или поза раздумья. Углы рта опущены, печальные брови, складка Вергаута (кожная складка верхнего века и бровь на границе внутренней и средней трети оттягиваются кверху и образуют угол, что придает лицу особенно печальное выражение). Голос тихий, паузы продолжительные, угасающая речь, тон голоса низкий. Улыбка печальная и скорбная, мимика страдания, боли, жесты задумчивости, покорности, смущения, гортанное покашливание. Локомоция с замедленным темпом поход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55640" y="40464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ОМАТИЗИРОВАННАЯ ДЕПРЕ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5280" y="1341360"/>
            <a:ext cx="8353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0360" indent="-360360" algn="just">
              <a:spcAft>
                <a:spcPts val="16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1412280"/>
            <a:ext cx="77752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аскированная депрессия (туманная, скрытая, ларвированная) - характеризуется полным или частичным отсутствием депрессивной триады (снижение настроения, идеаторная и моторная заторможенность) и разнообразными соматическими расстройств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66"/>
                </a:solidFill>
                <a:latin typeface="Arial"/>
              </a:rPr>
              <a:t>Большая распространенность маскированной депрессии (МД) обусловлена трудностью диагностики и ятрогенным фа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У женщин встречается в три раза чаще, чем у мужч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Имеет большое социальное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средний возраст бо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высокий суицидальный риск (в 75% случа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трудность диагности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Клинические проявления маскированной деп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78640"/>
            <a:ext cx="799308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тройства сна (агрепническая мас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ри маскированной депрессии расстройства сна могут быть ведущими, а порой и единственными проявлениями заболе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Инсомния является одной из главных составляющих триады нарушений цикла сон-бодрствование, включающих также гиперсомнию и парасомнию. Инсомния определяется как состояние затрудненного начала сна и его поддержания, нередко в сочетании с дневной слабостью, разбитостью, сниженной работоспособностью и сонлив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Повышенная дневная сонливость может отмечаться у практически здоровых лиц при психофизиологической гиперсомнии. Данное расстройство характеризуется хорошим ночным сном при недостаточной длительности и проявляется жалобами на дневную сонливость, невыспанность, жалобами астенического круга. Причинами повышенной дневной сонливости могут быть различные стрессы, наличие недостатка ночного сна при повышенной потребности во с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Arial"/>
              </a:rPr>
              <a:t>Нарушения сна при депрессии характеризуются сокращением длительность дельта - сна, особенно 4-й стадии сна, продолжительность регистрации дельта волн уменьшается, снижается их интенс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Абдоминальные эквиваленты депрессивных состоя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981000"/>
            <a:ext cx="7848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3597120"/>
            <a:ext cx="8424720" cy="37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836640"/>
            <a:ext cx="799308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орекс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снижение аппетита, вплоть до полного отказа пищи, что приводит к развитию тяжелых вторичных соматоэндокринных сдвигов. Сопровождается трофическими нарушениями со стороны кожных покровов (сухость кожи, тусклость и ломкость ногтей). Больные быстро мерзнут, отмечается выпадение волос и разрушение зуб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Значительное похудание нередко вплоть до кахексии приводит к наступлению аменореи как одного из основных клинических проявлений, развивающихся при хронической пищевой недостато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У больных уменьшается количество подкожной жировой клетчатки, нарастают дистрофические изменения кожи, мышц, развивается миокардиодистрофия, а также имеют место брадикардия, гипотония, акроцианоз, снижение температуры тела, уменьшается содержание сахара в крови, появляются признаки анем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99"/>
                </a:solidFill>
                <a:latin typeface="Arial"/>
              </a:rPr>
              <a:t>Ведущее место в клинической картине занимает астенический синдром с преобладанием адинамии и повышенной истощаем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В основе - закрепляющейся в последующем по условно-рефлекторным механизмам, лежит достаточно выраженная, хотя бы и кратковременная, депрессивная реакция с оттенком острого неприятия реальной действительности. Особое значение для «выбора» именно этого физиологического феномена как способа выражения эмоций получают психотравмирующие факторы, непосредственно сопряженные с самой едой или приготовлением пищи (например, уход за умирающим от рака желудка). Непосредственной причиной тошноты и рвоты могут быть не только чувство гнева, боли, страха, печали, тоски и отвращения, но и необычайная радость, т. е. любая эмоция, если она проявляется достаточно интенсивн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тошнота и рвота развиваются у эмоционально нестабильных лиц.  В ряде случаев тошнота и рвота представляют собой по существу стандартный для данного организма, хотя и несколько своеобразный, способ выражения эмоции, закрепившийся по типу патологического рефлек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Психогенная рвота сочетается с другими симптомами аффективных нарушений: расстройствами сна и аппетита, похуданием, сухостью во рту и повышенной жаждой, кардиалгиями и сердцебиением в покое, головокружением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сихогенная тошнота и р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225440"/>
            <a:ext cx="7993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Тошнота идентифицируется с представлениями, отражающими крайнюю степень органического неприятия, отвращения к чему-либо. Психогенная тошнота - это, прежде всего страх («низкий страх, идущий прямо от кишок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Манера изложения жалоб свидетельствует об аффективном происхождении симптома. Тягостное ощущение тошноты (или «легкого поташнивания») локализуется чаще всего в верхней части грудной клетки, «у горла» или «идет от живота»; оно особенно томительно по утрам; усиливается при волнении, резких колебаниях метеорологических условий или быстром переходе из горизонтального положения в вертикальное; исчезает под воздействием положительных эмоций, при отвлечении внимания больного или спонтанном повышении настроения во второй половине дня. Появлению тошноты предшествует обычно более или менее отчетливое снижение настроения с чувством нарастающей усталости, физического и душевного дискомфорта, расстройствами сна и аппет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Эмотивная рвота возникает преимущественно по утрам до, во время или непосредственно после еды (порой буквально после первых же глотков); не зависит от количества и качества съеденн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ункциональные запор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518680" cy="55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1225440"/>
            <a:ext cx="8640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Толстая кишка дифференцированно реагирует на эмоционально-стрессовые ситуации. Депрессивные тенденции приводят к снижению функции толстой кишки, страх и тревога - к повышению фун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Хронические запоры могут быть обусловлены не только игнорированием позывов к дефекации (при ощущении крайней усталости) или их притуплением, но и психогенной анорексией. Анорексия снижает двигательную активность кишеч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Arial"/>
              </a:rPr>
              <a:t>Важную роль в развитии привычных запоров играют также резкое самоограничение объема выпиваемой за день жидкости и злоупотребление некоторыми медикаментами (снотворными и транквилизаторами). Как при спастическом, так и атоническом запоре спонтанная дефекация может отсутствовать на протяжении одной и даже двух недель. Больные испытывают при этом неприятные ощущения (давления, полноты, распирания, урчания, переливания) в нижних отделах живота, что ложится в основу ипохондрической фиксации индивида. Больные, не удовлетворенные выделительной функцией своего кишечника, могут проводить в туалете по несколько часов в сутки и ставить себе ежедневно от 1 до 8 клизм. Известны случаи, когда больные доводят себя до кровотечений и выпадения прямой кишки, механически раздражая анальную область для достижения более полной дефек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5:59:22Z</dcterms:created>
  <dc:creator>Viktor</dc:creator>
  <dc:description/>
  <dc:language>en-US</dc:language>
  <cp:lastModifiedBy>Ирина</cp:lastModifiedBy>
  <dcterms:modified xsi:type="dcterms:W3CDTF">2004-12-01T18:02:39Z</dcterms:modified>
  <cp:revision>172</cp:revision>
  <dc:subject/>
  <dc:title>Слайд 1</dc:title>
</cp:coreProperties>
</file>