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C026-7643-40D7-9491-9C3843C6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DA4-649A-4550-BEA5-0A5EBE00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5EE-0CFE-4362-97F7-759488C4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159-5DC0-4529-BE7F-003B601F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2F45-F9A0-4A40-B73E-B7C1F0B8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EA4F-A433-464E-8E31-8283F18C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D9AB-62D2-45F0-A206-ECF7746F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FFB7-94DE-430B-8C36-FD22D1DE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633D-FAE1-43F5-AAE0-410363A3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418B-3798-4C44-B2D7-54D361AC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8981-F8DB-45D1-90BC-F8490416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A95-26C0-4F4A-85CB-687C65D6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431A-FDEF-45F2-B594-7865A6B3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4793-347E-4390-AEFE-5D8F5694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9DFD-A020-4E82-BB85-2D45A469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2210-1645-4F9C-AA12-E22D6E18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58BD-7328-4E89-8438-104E8317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1D979-814B-496E-AB88-07417A20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56407-1796-47E6-83A1-23396A0A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BC2D0-2C6E-403E-B226-3379474E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025E5-DEC1-440E-8540-C71C5EB5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A49E3-518F-47A9-93BD-6380B9D0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E32-5490-49FE-ACDC-1FB01242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62286-9BA4-4A8A-9D1D-B5EAB08E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8FC3F-26E1-42E8-96B9-66397E25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060A5-C3C1-473E-B24C-DA3E8AFC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AAF5F-6CAF-4872-9DB9-29CA43E7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40174-472B-4243-A061-511F6AB1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EAD9-4A35-453A-A5C9-66064C21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243DC-4B84-4597-89B2-34C45C9D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7AEB-6C79-4711-8009-1B57B8D0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FDF-3A97-49C8-A5EC-FDE0F07E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34E-FB64-45FF-9EFB-27E55104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2D7-C014-479F-99A6-73AD2BD8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EABC-850D-4CB4-9890-B1514ADB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F20-5D10-4DDA-9CE9-8878B16B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D772-B73C-4A1A-A8DE-D612EF861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6405-EC83-4BA6-A396-8174A629C6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FAE0-DBAD-4476-9E48-25A8451C37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1424160" y="0"/>
          <a:ext cx="6557760" cy="66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0"/>
                    <a:ext cx="655776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ЧНОСТНЫЙ ПРОФИЛЬ БОЛЬНЫХ ЗАП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1026720"/>
            <a:ext cx="85690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В преморбиде таким больным присущи называемые анальные черты характера в виде: точности, аккуратности, пунктуальности, чувства долга. Об эмоциональной бедности больных колитом писали </a:t>
            </a: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Fain</a:t>
            </a: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 (1951) и </a:t>
            </a: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Jores</a:t>
            </a: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 (1981): «они не способны воспринимать и вербализовать эмоции и конфликты». Такие больные характеризуются как: нервозные, нетерпеливые, сверхчувствительные и легко ранимые люди, чья способность расслабиться и наслаждаться блокирована. Они склонны к поведению с элементами навязчивостей и ярко выраженным самоконтролем. Они стремятся к тесному общению с узким кругом людей, желая близости, признания и защищенности; с другой стороны, они хотели бы остаться независимым, поскольку очень тесная близость кажется им угрожающ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Такие больные опрятны, любят порядок, пунктуальны, свой гнев выражают весьма сдержанно. Для них характерны некоторые черты инфантильности, склонность к депрессиям, к подавлению своих агрессивных импульсов. Чрезмерно развито чувство обязательности. У них репутация человека дела. Александер полагает, что у таких личностей ключевым моментом является фрустрированная потребность своей зависимости. Больные чаще происходят из семей, в которых вообще мало говорят о чувствах. У них низкая самооценка, и они весьма чувствительны к собственным неудачам. Потеря отношений с ключевой фигурой переживается бессознательно больными как угроза собственному существова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СИХОГЕННАЯ ДИАР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775080"/>
            <a:ext cx="86407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Чаще возникает при внезапном испуге, напряженном ожидании чего-ли­бо и других ситуациях, вызывающих чувство острой тревоги и душевного дискомфорта. Учащение дефекации до 5-10 и более раз в сутки сопутствует жалобам на приступы сердцебиений в покое, боль в левой половине грудной клетки, головокружение, потливость, тошноту и другие соматиче­ские признаки психовегетативной дисфункции. Абдоминальные алгии и вегетативно-сосудистые нарушения нередко усиливаются после еды, усугубляя страх приема пи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Абдоминальные алгии и вегетативно-сосудистые нарушения нередко усиливаются после еды, усугубляя и без того уже почти нескрываемый страх приема пищи, и отличаются известной причудливостью и независимостью от рациона. У ряда больных с «легко ранимым кишечником» и гастроинтестинальными страхами повышен так называемый желудочно-кишечный рефлекс – императивный позыв к дефекации возникает после каждого приема пи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Хронические невротические поносы, длятся годами и не поддаются диетическому лечению и требуют психотропной терап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Слабость, чувство постоянной усталости, похудание на 10-20 кг, раздражительность, парестезии, артралгии и миалгии, нарушения менструального цикла или развивающаяся импотенция, трофические расстройства (сухость кожи, ломкость ногтей и т. д.) и кожные высыпания, сосудистая дистония и всевозможные висцеро-вегетативные проявления, рассматриваемые как симптомы атипичного энтерита, абсолютно идентичны клинической картине соматизированной депре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индром раздраженной толстой киш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1228320"/>
            <a:ext cx="7993080" cy="4057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дром впервые описал J. Da Costa в 1871 г. в рамках «мукозного энтерита». Термин «синдром раздраженной толстой кишки», предложил H. Bockus в 192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пидемиология: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всего населения страдает симптомами СРТК в те или иные периоды жизни  (D.A. Drossman, 1994). СРТК - наиболее частая форма патологии в гастроэнтерологической практике: на его долю приходится до 11% от всех диагнозов, устанавливаемых гастроэнтерологами (J. Richter, 1989). В большинстве случаев СРТК развивается в позднем подростковом и раннем взрослом возрасте, причем у женщин примерно в 2 раза чаще, чем у мужч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линические проявления СРТК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810720"/>
            <a:ext cx="8136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1. Нарушения моторики кишечника – по типу запоров, диареи и смешанные варианты (перемежающиеся диарея и запор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Болевой синдром: абдоминалгии носят характер спастических болей, изолированных или эпизодически возникающих на фоне диффузных и стойких болевых ощущений в области жив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Отмечается преобладание невротических (тревожных) и аффективных (депрессивных) расстройств, протекающих с выраженными алгическими и вегетативными нарушениями (слабость, повышенная утомляемость, нервозность, головокружение, головные боли, тремор, боли в области спины, нарушения сна).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4. Преморбидные личностные особенности: ригидность, скрупулезность, утрированная склонностью к поряд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 более тяжелых случаях возможно развитие социальной дезадаптацией вплоть до полной утраты работоспособности и инвалидизации пациента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189000"/>
            <a:ext cx="3743280" cy="216036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333399"/>
                </a:solidFill>
                <a:uFillTx/>
                <a:latin typeface="Arial"/>
              </a:rPr>
              <a:t>Психогенная дизурия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 – проявляется в виде «настойчивой потребности мочиться» и сопровождается  вегетативно-сосудистыми симптомами: озноб, похолодание кистей и стоп или ощущение жара, бледность кожных покровов. Тревога и страх больных за свое состояние становятся объектом ипохондрической фиксации.В основе психогенного недержания мочи лежит снижение чувствительности мочевого пузыря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4653000"/>
            <a:ext cx="2736720" cy="144000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99"/>
                </a:solidFill>
                <a:uFillTx/>
                <a:latin typeface="Arial"/>
              </a:rPr>
              <a:t>Уретральная ипохондрия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 - неприятные и тягостные ощущения в области уретры и половых органах, сочетающиеся с различными психофеномена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92720" y="3645000"/>
            <a:ext cx="3672000" cy="302400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333399"/>
                </a:solidFill>
                <a:uFillTx/>
                <a:latin typeface="Arial"/>
              </a:rPr>
              <a:t>Нефроптоз -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тяжесть и ноющая боль в поясничной области, в  животе, нарастающая в вертикальном положении и при движении, ощущение перемещения или перекатывания в брюшной полости какого-то тяжелого предмета, сочетание со всевозможными диспепсическими расстройствами (анорексией, изжогой, отрыжкой, чувством давления в эпигастрии, упорным метеоризмом, запорами и т. д.), головной болью, нарушениями сна и нередко неинфекционным субфебрилитетом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0" y="333360"/>
            <a:ext cx="3132000" cy="266400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333399"/>
                </a:solidFill>
                <a:uFillTx/>
                <a:latin typeface="Arial"/>
              </a:rPr>
              <a:t>Цисталгия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- повышенная чувствительность при пальпации мочевого пузыря, болезненные ощущения в этой области и поллакиурия с императивными позывами к мочеиспусканию, возникающими даже при незначительном заполнении мочевого пузыря. Существует прямая зависимость цисталгии от психической травмы и особенности психического статуса больных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11280" y="2637000"/>
            <a:ext cx="2808360" cy="1873080"/>
          </a:xfrm>
          <a:prstGeom prst="roundRect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РОЛОГИЧЕСКИЕ МАСКИ ДЕПР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979640" y="4437000"/>
            <a:ext cx="936720" cy="21600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7640" y="2349360"/>
            <a:ext cx="1295640" cy="43200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003640" y="2565000"/>
            <a:ext cx="1081080" cy="35892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3280" y="4437000"/>
            <a:ext cx="720720" cy="36036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рофиль личности больных с урологическими расстрой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931680"/>
            <a:ext cx="8642160" cy="5661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Часто не придают серьезного значения физическим потребностям и праву на их удовлетворение. Отсутствие времени, чтобы сходить в туалет: прежде всего - работа. Сознательно ограничивается потребление жидкости, чтобы не было необходимости часто «исчезать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Стеснение: невротические жалобы на невозможность мочеиспускания в присутствии посторонних сочетаются с частым и болезненным мочеиспускан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Брезгливость: опасения перед грязью в чужих туале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Недостаточная открытость-честность: не хочется, чтобы посторонние заподозрили слабость мочевого пузы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 Вежливость: нежелание помешать други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В профессиональной сфере: активность, желание чего-то добиться, иметь успе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 В сфере контактов чрезвычайно сдержанны, в отличие от других людей, они очень скованны и неуверен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 Преобладает лабильное, преимущественно тревожное настроение с опасениями неуспеха и склонностью к депресси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 Воспитание и установки: родители таких пациентов очень высоко ценили чистоплотность и достижения. Функция выделения принадлежит половым органам и, таким образом, вследствие строгого, враждебного отношения к телу и морализирующего воспитания, мочеиспускание бессознательно связывалось с чем-то запретным и переживалось противоречиво. Тот, у кого слабый мочевой пузырь, нередко считается слабым или незрелым челове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Анкета Кельгольц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8360" y="565200"/>
            <a:ext cx="835164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Доставляет ли Вам жизнь чувство удовлетво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Сохранился ли интерес к привычным занятиям и увлечен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стало ли трудно начинать новое дело?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ась ли несвойственная Вам утомляемость и слабость и как она меняется в течение д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ось ли чувство тревоги, напряженности и беспричинного беспокой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стало ли трудно Вам принимать реш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нарушился ли со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беспокоит ли боль или чувство стеснения в груд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изменился ли аппетит и Ваш ве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т ли нарушений в половой сфере (менструальном цикле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ась ли вялость, пассивность, несвойственное Вам желание сидеть без де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ось ли чувства бесполезн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11280" y="48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БЛАГОДАРЮ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93800" y="291960"/>
            <a:ext cx="741528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ТЕМА ЛЕКЦИИ: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СИХОФЕНОМЕНОЛОГ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ПРЕССИВНЫХ СОСТОЯ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Деп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51280" y="1989000"/>
            <a:ext cx="16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543960"/>
            <a:ext cx="8569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(от лат.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epressio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- подавление, угнетение) – аффективное состояние, характеризующееся сниженным настроением, идеаторной и моторной заторможенностью (триада Крепелина), а также соматовегетативными дисфункц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деаторный компонент триады Крепелина: изменение скорости течения ассоциаций - ассоциации замедлены и структурно упрощены; больные жалуются на тупость, безмыслие, потерю памяти; речь становится лаконичной, элементарной с длительными паузами. Речь замедленная, лишена эмоциональных оттен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Моторно - волевой компонент триады Крепели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1) Гипобулия - ослабление побуждений к деятельности и общее снижение активности. Снижение влечений: пищевого и полового (импотенция, фригидность, аноргазмия). Утрате аппетита сопутствует отвращение к виду, запаху пи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2) Депрессивное невербальное поведение - поза больных в положении стоя с фиксацией или поза раздумья. Углы рта опущены, печальные брови, складка Вергаута (кожная складка верхнего века и бровь на границе внутренней и средней трети оттягиваются кверху и образуют угол, что придает лицу особенно печальное выражение). Голос тихий, паузы продолжительные, угасающая речь, тон голоса низкий. Улыбка печальная и скорбная, мимика страдания, боли, жесты задумчивости, покорности, смущения, гортанное покашливание. Локомоция с замедленным темпом поход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5564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ОМАТИЗИРОВАННАЯ ДЕП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1341360"/>
            <a:ext cx="8353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0360" indent="-360360" algn="just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4360" y="1412280"/>
            <a:ext cx="7775280" cy="42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аскированная депрессия (туманная, скрытая, ларвированная) - характеризуется полным или частичным отсутствием депрессивной триады (снижение настроения, идеаторная и моторная заторможенность) и разнообразными соматическими расстройств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Большая распространенность маскированной депрессии (МД) обусловлена трудностью диагностики и ятрогенным факт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 женщин встречается в три раза чаще, чем у мужч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Имеет большое социальное зна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средний возраст бо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высокий суицидальный риск (в 75% случа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трудность диагности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Клинические проявления маскированной депре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1178640"/>
            <a:ext cx="79930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тройства сна (агрепническая мас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При маскированной депрессии расстройства сна могут быть ведущими, а порой и единственными проявлениями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нсомния является одной из главных составляющих триады нарушений цикла сон-бодрствование, включающих также гиперсомнию и парасомнию. Инсомния определяется как состояние затрудненного начала сна и его поддержания, нередко в сочетании с дневной слабостью, разбитостью, сниженной работоспособностью и сонлив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Повышенная дневная сонливость может отмечаться у практически здоровых лиц при психофизиологической гиперсомнии. Данное расстройство характеризуется хорошим ночным сном при недостаточной длительности и проявляется жалобами на дневную сонливость, невыспанность, жалобами астенического круга. Причинами повышенной дневной сонливости могут быть различные стрессы, наличие недостатка ночного сна при повышенной потребности во с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Нарушения сна при депрессии характеризуются сокращением длительность дельта - сна, особенно 4-й стадии сна, продолжительность регистрации дельта волн уменьшается, снижается их интенсив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Абдоминальные эквиваленты депрессивных состоя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981000"/>
            <a:ext cx="7848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3597120"/>
            <a:ext cx="8424720" cy="37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836640"/>
            <a:ext cx="79930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норекс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снижение аппетита, вплоть до полного отказа пищи, что приводит к развитию тяжелых вторичных соматоэндокринных сдвигов. Сопровождается трофическими нарушениями со стороны кожных покровов (сухость кожи, тусклость и ломкость ногтей). Больные быстро мерзнут, отмечается выпадение волос и разрушение зу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Значительное похудание нередко вплоть до кахексии приводит к наступлению аменореи как одного из основных клинических проявлений, развивающихся при хронической пищевой недостаточ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У больных уменьшается количество подкожной жировой клетчатки, нарастают дистрофические изменения кожи, мышц, развивается миокардиодистрофия, а также имеют место брадикардия, гипотония, акроцианоз, снижение температуры тела, уменьшается содержание сахара в крови, появляются признаки анем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Ведущее место в клинической картине занимает астенический синдром с преобладанием адинамии и повышенной истощаем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сихогенная тошнота и р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В основе - закрепляющейся в последующем по условно-рефлекторным механизмам, лежит достаточно выраженная, хотя бы и кратковременная, депрессивная реакция с оттенком острого неприятия реальной действительности. Особое значение для «выбора» именно этого физиологического феномена как способа выражения эмоций получают психотравмирующие факторы, непосредственно сопряженные с самой едой или приготовлением пищи (например, уход за умирающим от рака желудка). Непосредственной причиной тошноты и рвоты могут быть не только чувство гнева, боли, страха, печали, тоски и отвращения, но и необычайная радость, т. е. любая эмоция, если она проявляется достаточно интенсив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Психогенная тошнота и рвота развиваются у эмоционально нестабильных лиц.  В ряде случаев тошнота и рвота представляют собой по существу стандартный для данного организма, хотя и несколько своеобразный, способ выражения эмоции, закрепившийся по типу патологического рефлек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Психогенная рвота сочетается с другими симптомами аффективных нарушений: расстройствами сна и аппетита, похуданием, сухостью во рту и повышенной жаждой, кардиалгиями и сердцебиением в покое, головокружением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сихогенная тошнота и р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1225440"/>
            <a:ext cx="7993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Тошнота идентифицируется с представлениями, отражающими крайнюю степень органического неприятия, отвращения к чему-либо. Психогенная тошнота - это, прежде всего страх («низкий страх, идущий прямо от кишок»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Манера изложения жалоб свидетельствует об аффективном происхождении симптома. Тягостное ощущение тошноты (или «легкого поташнивания») локализуется чаще всего в верхней части грудной клетки, «у горла» или «идет от живота»; оно особенно томительно по утрам; усиливается при волнении, резких колебаниях метеорологических условий или быстром переходе из горизонтального положения в вертикальное; исчезает под воздействием положительных эмоций, при отвлечении внимания больного или спонтанном повышении настроения во второй половине дня. Появлению тошноты предшествует обычно более или менее отчетливое снижение настроения с чувством нарастающей усталости, физического и душевного дискомфорта, расстройствами сна и аппет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Эмотивная рвота возникает преимущественно по утрам до, во время или непосредственно после еды (порой буквально после первых же глотков); не зависит от количества и качества съеден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ункциональные запо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280" y="1225440"/>
            <a:ext cx="8640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Толстая кишка дифференцированно реагирует на эмоционально-стрессовые ситуации. Депрессивные тенденции приводят к снижению функции толстой кишки, страх и тревога - к повышению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Хронические запоры могут быть обусловлены не только игнорированием позывов к дефекации (при ощущении крайней усталости) или их притуплением, но и психогенной анорексией. Анорексия снижает двигательную активность кишеч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ажную роль в развитии привычных запоров играют также резкое самоограничение объема выпиваемой за день жидкости и злоупотребление некоторыми медикаментами (снотворными и транквилизаторами). Как при спастическом, так и атоническом запоре спонтанная дефекация может отсутствовать на протяжении одной и даже двух недель. Больные испытывают при этом неприятные ощущения (давления, полноты, распирания, урчания, переливания) в нижних отделах живота, что ложится в основу ипохондрической фиксации индивида. Больные, не удовлетворенные выделительной функцией своего кишечника, могут проводить в туалете по несколько часов в сутки и ставить себе ежедневно от 1 до 8 клизм. Известны случаи, когда больные доводят себя до кровотечений и выпадения прямой кишки, механически раздражая анальную область для достижения более полной дефек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59:22Z</dcterms:created>
  <dc:creator>Viktor</dc:creator>
  <dc:description/>
  <dc:language>en-US</dc:language>
  <cp:lastModifiedBy>Ирина</cp:lastModifiedBy>
  <dcterms:modified xsi:type="dcterms:W3CDTF">2004-12-01T18:02:39Z</dcterms:modified>
  <cp:revision>172</cp:revision>
  <dc:subject/>
  <dc:title>Слайд 1</dc:title>
</cp:coreProperties>
</file>